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6200000">
            <a:off x="-2434320" y="2434320"/>
            <a:ext cx="55166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44280" y="5194440"/>
            <a:ext cx="567000" cy="16192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 rot="16200000">
            <a:off x="-2175480" y="2459160"/>
            <a:ext cx="50086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rebuchet MS"/>
              </a:rPr>
              <a:t>METODO STRUTTURALE DINAMICO – Primo gio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179280" y="360360"/>
            <a:ext cx="4376880" cy="6093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 txBox="1"/>
          <p:nvPr/>
        </p:nvSpPr>
        <p:spPr>
          <a:xfrm>
            <a:off x="4859280" y="1546200"/>
            <a:ext cx="385776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36227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rebuchet MS"/>
              </a:rPr>
              <a:t>METODO</a:t>
            </a:r>
            <a:endParaRPr b="1" lang="en-US" sz="4800" spc="1" strike="noStrike">
              <a:ln w="0">
                <a:noFill/>
              </a:ln>
              <a:solidFill>
                <a:srgbClr val="36227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rebuchet MS"/>
              <a:ea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36227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rebuchet MS"/>
              </a:rPr>
              <a:t>STRUTTURALE</a:t>
            </a:r>
            <a:endParaRPr b="1" lang="en-US" sz="4800" spc="1" strike="noStrike">
              <a:ln w="0">
                <a:noFill/>
              </a:ln>
              <a:solidFill>
                <a:srgbClr val="36227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rebuchet MS"/>
              <a:ea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36227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rebuchet MS"/>
              </a:rPr>
              <a:t>DINAMICO</a:t>
            </a:r>
            <a:endParaRPr b="1" lang="en-US" sz="4800" spc="1" strike="noStrike">
              <a:ln w="0">
                <a:noFill/>
              </a:ln>
              <a:solidFill>
                <a:srgbClr val="36227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rebuchet MS"/>
              <a:ea typeface="Trebuchet MS"/>
            </a:endParaRPr>
          </a:p>
        </p:txBody>
      </p:sp>
      <p:sp>
        <p:nvSpPr>
          <p:cNvPr id="41" name=""/>
          <p:cNvSpPr/>
          <p:nvPr/>
        </p:nvSpPr>
        <p:spPr>
          <a:xfrm>
            <a:off x="5791680" y="4772160"/>
            <a:ext cx="22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d4d4d"/>
                </a:solidFill>
                <a:latin typeface="Trebuchet MS"/>
              </a:rPr>
              <a:t>Primo gio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675640" y="566100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96240" y="4437000"/>
            <a:ext cx="33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d4d4d"/>
                </a:solidFill>
                <a:latin typeface="Trebuchet MS"/>
              </a:rPr>
              <a:t>SEMINARIO PRA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411880" y="260280"/>
            <a:ext cx="36342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I Metodi della Filoso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1628640"/>
            <a:ext cx="7417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La Scolastica (Teologia – Filosof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Tommaso d’Aquino (1225–127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Rivelazione - Ragio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92800" y="260280"/>
            <a:ext cx="36342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I Metodi della Filoso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1052640"/>
            <a:ext cx="74170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Il Dubbio Metod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artesio - René Descartes (1596–16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Non ammettere come vera nessuna cosa che non si sappia con evidenza che lo 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ividere ognuna delle difficoltà da esaminare in tante parti quanto sia possib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ondurre ordinatamente i pensieri, cominciando dagli oggetti più semplici e facili da conosc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Fare resoconti tanto integrali da essere sicuri di non avere omesso ni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87280" y="1052640"/>
            <a:ext cx="74170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La Dialettica di Heg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Hegel (1770–18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realtà è l’assoluto che esiste in una evoluzione dialettica di carattere logico-razion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Tutto il reale è razionale e tutto il razionale è real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contraddizione è la radice di ogni movimento e vitalit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Tesi – Antitesi - Sintes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2800" y="260280"/>
            <a:ext cx="36342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I Metodi della Filoso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87280" y="1052640"/>
            <a:ext cx="74170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La Riduzione Fenomenolog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Husserl (1859–19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Fenomenologia come studio delle esenze dei vissuti (ogni atto psichico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I vissuti sono intenzionali (Noesi) perché si riferiscono sempre ad un oggetto (Noem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Riduzione Fenomenologica: porre in </a:t>
            </a:r>
            <a:r>
              <a:rPr b="0" i="1" lang="es-ES" sz="2400" spc="-1" strike="noStrike">
                <a:solidFill>
                  <a:srgbClr val="000000"/>
                </a:solidFill>
                <a:latin typeface="Trebuchet MS"/>
              </a:rPr>
              <a:t>epokhé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 la considerazione esistenzia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Riduzione Eidetica: elevarsi alle essenz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fenomenologia come scienza eidetica descrittiva delle essenze dei vissuti della coscienza p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2800" y="260280"/>
            <a:ext cx="36342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I Metodi della Filoso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19320" y="990720"/>
            <a:ext cx="723888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Le scienze si presentano come un grande insieme di teorie che pretendono di spiegare come e perché avvengono i fenomeni che osserviam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Il loro sviluppo parte dal delimitare un gruppo di oggetti da conoscere e un metodo per approcciarne la conoscenz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Scienze Formal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Scienze Applicate. Scienze Naturali e Scienze Uma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Metodi Deduttiv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Metodi Induttiv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Metodo Ipotetico-Deduttiv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2800" y="260280"/>
            <a:ext cx="36342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I Metodi della Filoso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26920" y="1413000"/>
            <a:ext cx="8317080" cy="47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rebuchet MS"/>
              </a:rPr>
              <a:t>La Visione del Nuovo Umanes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rebuchet MS"/>
              </a:rPr>
              <a:t>I Meccanismi del Pens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rebuchet MS"/>
              </a:rPr>
              <a:t>I Principi Log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3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rebuchet MS"/>
              </a:rPr>
              <a:t>Le Leggi Univers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3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rebuchet MS"/>
              </a:rPr>
              <a:t>Il Metodo Strutturale Dinamico (MSD). </a:t>
            </a: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Generalità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3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3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rebuchet MS"/>
              </a:rPr>
              <a:t>Il MSD come strumento di studio e trasform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24360" y="260280"/>
            <a:ext cx="468000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2. Basi concettuali del Nuovo Umanesi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99160" y="222120"/>
            <a:ext cx="52480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La Visione del Nuovo Umanes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1141560"/>
            <a:ext cx="824400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Il Nuovo Umanesimo offre una visione totalizzante dell’Essere Umano e del Mondo, che parte da una intuizione integrale di tutto l’esistente, cogliendo il fenomeno in modo diretto</a:t>
            </a: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L’esperienza è movimento e cambiamento permanente. L’esperienza da sola non è sufficiente per ottenere un sistema ordinato di noi stessi, né del mondo. Solamente con essa, non potremmo operare nel mondo con coerenz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L</a:t>
            </a: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a coscienza umana ci appare con una doppia capacità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61800">
              <a:lnSpc>
                <a:spcPct val="100000"/>
              </a:lnSpc>
              <a:spcBef>
                <a:spcPts val="2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Cogliere in modo diretto diversi tipi di fenomen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61800">
              <a:lnSpc>
                <a:spcPct val="100000"/>
              </a:lnSpc>
              <a:spcBef>
                <a:spcPts val="2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Dispiegare questa esperienza attraverso il pensiero, con l’intento di </a:t>
            </a: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comprenderla ed esprimerla</a:t>
            </a: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053680" y="222120"/>
            <a:ext cx="404244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I meccanismi del pens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1141560"/>
            <a:ext cx="82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13716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1066680"/>
            <a:ext cx="7467480" cy="44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truttura Atto – Ogget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inamica e direzione del pens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’interesse come inquadra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troalimentazione tra atto e ogget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omento del pens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’interesse opera per Differenzi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lazione tra differenze. Complement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lazione tra le relazioni. Sinte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651640" y="304920"/>
            <a:ext cx="33130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I Princi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1141560"/>
            <a:ext cx="838836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Le astrazioni più ampie del pensare si riferiscono all’“Essere”, e il loro comportamento da luogo a ciò che conosciamo come Princip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Questi Principi non sono stati dimostrati sebbene siano il fondamento di Leggi, Teorie e Metodi Scientific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di Identità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spcBef>
                <a:spcPts val="2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di Non Contraddi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spcBef>
                <a:spcPts val="2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del Terzo Esclu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spcBef>
                <a:spcPts val="2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della Ragione Suffic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71640" y="5516640"/>
            <a:ext cx="7777080" cy="1099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rebuchet MS"/>
              </a:rPr>
              <a:t>Nella teoria del Nuovo Umanesimo, i Principi, le Leggi e il Metodo hanno il loro fondamento nei meccanismi del pens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065480" y="222120"/>
            <a:ext cx="50439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I Principi Logici dell’Umanes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1141560"/>
            <a:ext cx="82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13716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1341360"/>
            <a:ext cx="753912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Metafisica è quella parte dell’Ontologia che studia l’Essere in generale, e non esseri particolar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alla concezione metafisica si fanno derivare tutti i tipi di logica con fondamen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etafisica classica: esiste l’Esse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etafisica dell’Umanesimo: non esiste l’Essere, ma esso è la massima astrazione del pens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55640" y="1341360"/>
            <a:ext cx="777564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3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rebuchet MS"/>
              </a:rPr>
              <a:t>Sull’atteggiamento durante il lavo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3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3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rebuchet MS"/>
              </a:rPr>
              <a:t>Che cos’è un meto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3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rebuchet MS"/>
              </a:rPr>
              <a:t>L’esperienza umana. </a:t>
            </a: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Esperienza e pensi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3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3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rebuchet MS"/>
              </a:rPr>
              <a:t>I Metodi della Filosof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3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3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rebuchet MS"/>
              </a:rPr>
              <a:t>Il Metodo della Scien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7280" y="260280"/>
            <a:ext cx="2737080" cy="10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1.Genera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429520" y="222120"/>
            <a:ext cx="36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Principio di Esperi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0200" y="1197000"/>
            <a:ext cx="7813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“</a:t>
            </a:r>
            <a:r>
              <a:rPr b="1" lang="es-ES" sz="2400" spc="-1" strike="noStrike">
                <a:solidFill>
                  <a:srgbClr val="362276"/>
                </a:solidFill>
                <a:latin typeface="Trebuchet MS"/>
              </a:rPr>
              <a:t>Non esiste essere senza manifestazione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1341360"/>
            <a:ext cx="28728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622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622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263700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Questo Principio indica che non possiamo parlare di ciò di cui non abbiamo alcuna manifestazi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11080" y="260280"/>
            <a:ext cx="37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Principio di Grad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0200" y="1197000"/>
            <a:ext cx="781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“</a:t>
            </a: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Ciò che ‘è’ e ciò che ‘non è’ ammettono diversi gradi di probabilità e certezza.</a:t>
            </a:r>
            <a:r>
              <a:rPr b="1" lang="es-ES" sz="2400" spc="-1" strike="noStrike">
                <a:solidFill>
                  <a:srgbClr val="362276"/>
                </a:solidFill>
                <a:latin typeface="Trebuchet MS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1341360"/>
            <a:ext cx="28728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622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622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2637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Questo Principio afferma che le cose non sono “vere” o “false”, ma riconosce un </a:t>
            </a:r>
            <a:r>
              <a:rPr b="0" i="1" lang="es-ES" sz="2400" spc="-1" strike="noStrike">
                <a:solidFill>
                  <a:srgbClr val="000000"/>
                </a:solidFill>
                <a:latin typeface="Trebuchet MS"/>
              </a:rPr>
              <a:t>continuum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 di probabilità tra ciò che è e ciò che non è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094280" y="222120"/>
            <a:ext cx="50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Principio di Non Contraddi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0200" y="1197000"/>
            <a:ext cx="781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“</a:t>
            </a: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N</a:t>
            </a:r>
            <a:r>
              <a:rPr b="1" lang="es-ES" sz="2400" spc="-1" strike="noStrike">
                <a:solidFill>
                  <a:srgbClr val="362276"/>
                </a:solidFill>
                <a:latin typeface="Trebuchet MS"/>
              </a:rPr>
              <a:t>on è possibile che qualcosa ‘sia’ e ‘non sia’ nello stesso momento e nel medesimo senso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1341360"/>
            <a:ext cx="28728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622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622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263700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Una cosa può essere differente da sé stessa se cambia il momento o il senso in cui la si conside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500080" y="222120"/>
            <a:ext cx="35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Principio di Varia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30200" y="1197000"/>
            <a:ext cx="78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“</a:t>
            </a: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L’essere ‘è’ e ‘non è’ identico a sé stesso a seconda se lo si consideri come momento o come process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1341360"/>
            <a:ext cx="28728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622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622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2637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’essere considerato come momento è identico a sé stesso, e considerato come processo non è identico a sé stess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02280" y="222120"/>
            <a:ext cx="305964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Le Leggi Univers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1052640"/>
            <a:ext cx="792144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Al di sopra di tutto vi è l’esperienza. Da questa sorgono i grandi concetti che chiamiamo Leggi Universali, le quali sono strumenti di lavoro concettua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Abbracciano la totalità dei fenomeni che arrivano alla nostra esperienza e servono per orientare il processo del pensier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Sono costruzioni umane operative, che permettono di spiegare i fenomeni e di prevedere tendenz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Sono idee sistematizzate di come funzionano le cose, regolarità che si compiono in una frangia determinata di fenomen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Non possono essere spiegate a partire da esperienze di natura particolare, ma da una esperienza globalizzant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101280" y="22212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Legge di Strut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30200" y="1197000"/>
            <a:ext cx="78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“</a:t>
            </a:r>
            <a:r>
              <a:rPr b="1" lang="es-ES" sz="2400" spc="-1" strike="noStrike">
                <a:solidFill>
                  <a:srgbClr val="362276"/>
                </a:solidFill>
                <a:latin typeface="Trebuchet MS"/>
              </a:rPr>
              <a:t>Niente esiste isolato, ma in relazione dinamica con altri esseri all’interno di ambiti condizionanti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1341360"/>
            <a:ext cx="28728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622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622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2637000"/>
            <a:ext cx="770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Questa legge indica che non è valido lo studio di un oggetto se non lo si mette in relazione con altri oggetti che stanno nello stesso ambiente; se non si tiene conto che tanto l’oggetto di studio quanto gli altri in relazione con esso sono in movimento; e se non li si comprende all’interno di ambiti maggiori che condizionano il loro comporta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76960" y="22212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Legge di Concomit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0200" y="1197000"/>
            <a:ext cx="78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“</a:t>
            </a:r>
            <a:r>
              <a:rPr b="1" lang="es-ES" sz="2400" spc="-1" strike="noStrike">
                <a:solidFill>
                  <a:srgbClr val="362276"/>
                </a:solidFill>
                <a:latin typeface="Trebuchet MS"/>
              </a:rPr>
              <a:t>Ogni processo è determinato da relazioni di simultaneità con processi dello stesso ambito, e non da cause lineari del movimento precedente da cui provien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71640" y="1341360"/>
            <a:ext cx="28728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622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622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386064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on questa Legge studiamo le relazioni di simultaneità con altri processi che si sviluppano nello stesso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753240" y="222120"/>
            <a:ext cx="22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Legge di Ci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30200" y="1197000"/>
            <a:ext cx="727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“</a:t>
            </a:r>
            <a:r>
              <a:rPr b="1" lang="es-ES" sz="2400" spc="-1" strike="noStrike">
                <a:solidFill>
                  <a:srgbClr val="362276"/>
                </a:solidFill>
                <a:latin typeface="Trebuchet MS"/>
              </a:rPr>
              <a:t>Tutto nell’Universo è in evoluzione, e va dal più semplice al più complesso ed organizzato, secondo tempi e ritmi ciclici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1341360"/>
            <a:ext cx="28728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622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622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32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on questa Legge studiamo la dinamica, il ritmo, il ciclo, il movimento verso la trasformazione dal semplice al comple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5360" y="222120"/>
            <a:ext cx="84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Legge di Superamento del Vecchio ad opera del Nuo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0200" y="1197000"/>
            <a:ext cx="781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“</a:t>
            </a:r>
            <a:r>
              <a:rPr b="1" lang="es-ES" sz="2400" spc="-1" strike="noStrike">
                <a:solidFill>
                  <a:srgbClr val="362276"/>
                </a:solidFill>
                <a:latin typeface="Trebuchet MS"/>
              </a:rPr>
              <a:t>La continua evoluzione dell’Universo mostra un ritmo di differenziazioni, combinazioni e sintesi ogni volta di maggiore complessità. Le nuove sintesi accolgono le differenziazioni precedenti ed eliminano materia ed energia qualitativamente non accettabili per i passi più complessi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1341360"/>
            <a:ext cx="28728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622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622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16000" y="4437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tudiamo, con questa Legge, la trasformazione dell’individuo e la sua relazione con i cambiamenti dell’ambito maggiore nel quale è inclu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71640" y="222120"/>
            <a:ext cx="80643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Il Metodo Strutturale Dinamico (MSD). Generalit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6000" y="98100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62276"/>
                </a:solidFill>
                <a:latin typeface="Trebuchet MS"/>
              </a:rPr>
              <a:t>Pretendiamo che il metodo ci permetta di comprendere ciò che viviamo e ci aiuti ad avere chiaro come operare nel mo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2708280"/>
            <a:ext cx="802800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Non stiamo dicendo che cerchiamo la verità o l’essenza delle cose che studiere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iciamo semplicemente che cerchiamo di migliorare la chiarezza e la comprensione del nostro sguardo e del mondo a cui esso si rivol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ertanto il Metodo sarà un tentativo di compensazione ordinatrice di fronte a tutto un sistema di esperienze disordin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419640" y="222120"/>
            <a:ext cx="554508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 </a:t>
            </a: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Sull’atteggiamento durante il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2060640"/>
            <a:ext cx="79218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campana mentale: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 cerchio tematico </a:t>
            </a: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in cui ci 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muoveremo, </a:t>
            </a: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r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azionato con i temi del seminario</a:t>
            </a: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sistema di relazioni della maggior scioltezza possibile: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 la prospettiva e l’intenzione non sono nel confronto di idee, ma nel contributo da diversi punti di vista, con spirito di confluenza e di integrazi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attenzione distesa</a:t>
            </a:r>
            <a:r>
              <a:rPr b="1" lang="es-ES_tradnl" sz="24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quella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 che ci permette di seguire i temi con una specie di rilassamento menta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52840" y="1195560"/>
            <a:ext cx="38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re proposte per il lavo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511280" y="115920"/>
            <a:ext cx="6878520" cy="6481800"/>
            <a:chOff x="1511280" y="115920"/>
            <a:chExt cx="6878520" cy="6481800"/>
          </a:xfrm>
        </p:grpSpPr>
        <p:sp>
          <p:nvSpPr>
            <p:cNvPr id="129" name=""/>
            <p:cNvSpPr/>
            <p:nvPr/>
          </p:nvSpPr>
          <p:spPr>
            <a:xfrm>
              <a:off x="1547640" y="115920"/>
              <a:ext cx="684360" cy="6478560"/>
            </a:xfrm>
            <a:prstGeom prst="rect">
              <a:avLst/>
            </a:prstGeom>
            <a:gradFill rotWithShape="0">
              <a:gsLst>
                <a:gs pos="0">
                  <a:srgbClr val="fef1d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32000" y="1488960"/>
              <a:ext cx="615780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rebuchet MS"/>
                </a:rPr>
                <a:t>Studio i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Trebuchet MS"/>
                </a:rPr>
                <a:t>Sta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11280" y="1479600"/>
              <a:ext cx="684360" cy="20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32000" y="5087880"/>
              <a:ext cx="6157800" cy="13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rebuchet MS"/>
                </a:rPr>
                <a:t>Rapporto fina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rebuchet MS"/>
                </a:rPr>
                <a:t>Altre Applicazion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rebuchet MS"/>
                </a:rPr>
                <a:t>Conseguenz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47640" y="5221440"/>
              <a:ext cx="6843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32000" y="3429000"/>
              <a:ext cx="6157800" cy="15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rebuchet MS"/>
                </a:rPr>
                <a:t>Descrizio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rebuchet MS"/>
                </a:rPr>
                <a:t>Riassunt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rebuchet MS"/>
                </a:rPr>
                <a:t>Sintesi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rebuchet MS"/>
                </a:rPr>
                <a:t>Conclusi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47640" y="3510000"/>
              <a:ext cx="684360" cy="17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32000" y="2436840"/>
              <a:ext cx="615780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rebuchet MS"/>
                </a:rPr>
                <a:t>Studio 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rebuchet MS"/>
                </a:rPr>
                <a:t>Dinam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32000" y="123840"/>
              <a:ext cx="615780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rebuchet MS"/>
                </a:rPr>
                <a:t>Delimitazione del proble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rebuchet MS"/>
                </a:rPr>
                <a:t>Formulazione della doman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rebuchet MS"/>
                </a:rPr>
                <a:t>Definizione dell’oggetto di stud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47640" y="123840"/>
              <a:ext cx="6843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47640" y="6597720"/>
              <a:ext cx="6842160" cy="0"/>
            </a:xfrm>
            <a:prstGeom prst="line">
              <a:avLst/>
            </a:prstGeom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47640" y="123840"/>
              <a:ext cx="0" cy="6462720"/>
            </a:xfrm>
            <a:prstGeom prst="line">
              <a:avLst/>
            </a:prstGeom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47640" y="1484280"/>
              <a:ext cx="684216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47640" y="3429000"/>
              <a:ext cx="684216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47640" y="5013360"/>
              <a:ext cx="684216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47640" y="123840"/>
              <a:ext cx="6842160" cy="0"/>
            </a:xfrm>
            <a:prstGeom prst="line">
              <a:avLst/>
            </a:prstGeom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32000" y="123840"/>
              <a:ext cx="0" cy="64627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89800" y="2517840"/>
              <a:ext cx="0" cy="9921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389800" y="123840"/>
              <a:ext cx="0" cy="2394000"/>
            </a:xfrm>
            <a:prstGeom prst="line">
              <a:avLst/>
            </a:prstGeom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89800" y="3510000"/>
              <a:ext cx="0" cy="3076560"/>
            </a:xfrm>
            <a:prstGeom prst="line">
              <a:avLst/>
            </a:prstGeom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08800" y="1527120"/>
              <a:ext cx="1793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rebuchet MS"/>
                </a:rPr>
                <a:t>Ambito Maggio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rebuchet MS"/>
                </a:rPr>
                <a:t>Ambito Med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rebuchet MS"/>
                </a:rPr>
                <a:t>Ambito Mino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93040" y="2492280"/>
              <a:ext cx="1709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rebuchet MS"/>
                </a:rPr>
                <a:t>Proces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rebuchet MS"/>
                </a:rPr>
                <a:t>Rel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rebuchet MS"/>
                </a:rPr>
                <a:t>Composi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85040" y="1609560"/>
              <a:ext cx="83880" cy="825840"/>
            </a:xfrm>
            <a:custGeom>
              <a:avLst/>
              <a:gdLst>
                <a:gd name="textAreaLeft" fmla="*/ 53640 w 83880"/>
                <a:gd name="textAreaRight" fmla="*/ 84240 w 83880"/>
                <a:gd name="textAreaTop" fmla="*/ 21240 h 825840"/>
                <a:gd name="textAreaBottom" fmla="*/ 804600 h 82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08800" y="2492280"/>
              <a:ext cx="84240" cy="825480"/>
            </a:xfrm>
            <a:custGeom>
              <a:avLst/>
              <a:gdLst>
                <a:gd name="textAreaLeft" fmla="*/ 54000 w 84240"/>
                <a:gd name="textAreaRight" fmla="*/ 84600 w 84240"/>
                <a:gd name="textAreaTop" fmla="*/ 21240 h 825480"/>
                <a:gd name="textAreaBottom" fmla="*/ 804240 h 82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1409040" y="2354400"/>
              <a:ext cx="89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ANALIS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6200000">
              <a:off x="1322280" y="663840"/>
              <a:ext cx="110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DOMAN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324440" y="4038480"/>
              <a:ext cx="109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RISPO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1006560" y="5508000"/>
              <a:ext cx="172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APPLICAZI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22880" y="1774800"/>
              <a:ext cx="166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rebuchet MS"/>
                </a:rPr>
                <a:t>La   Struttu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48800" y="2671920"/>
              <a:ext cx="165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rebuchet MS"/>
                </a:rPr>
                <a:t>Il Movim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95720" y="222120"/>
            <a:ext cx="78447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Il MSD come strumento di studio e trasfor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1125360"/>
            <a:ext cx="8244000" cy="57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312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Trebuchet MS"/>
              </a:rPr>
              <a:t>Il lavoro con questi procedimenti porta non solo ad ordinare l’esperienza, ma trasforma l’</a:t>
            </a:r>
            <a:r>
              <a:rPr b="0" lang="es-MX" sz="2100" spc="-1" strike="noStrike">
                <a:solidFill>
                  <a:srgbClr val="000000"/>
                </a:solidFill>
                <a:latin typeface="Trebuchet MS"/>
              </a:rPr>
              <a:t>operatore e lo abilita ad un modo di pensare ordinato e coer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312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Trebuchet MS"/>
              </a:rPr>
              <a:t>Osserveremo durante lo studio le nostre resistenze personali a pensare con ordine e coerenz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312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Trebuchet MS"/>
              </a:rPr>
              <a:t>Questo sarà l’indicatore che non siamo abituati ad essere chiari, a percepire in modo integrale ed ad avvicinarci alla dinamica dei processi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312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Trebuchet MS"/>
              </a:rPr>
              <a:t>Al contrario l’esercizio ripetuto ci porterà una nuova comprensione del mondo che ci è attorno e di noi stessi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312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Trebuchet MS"/>
              </a:rPr>
              <a:t>Se accettiamo che non siamo isolati dal mondo, ma in struttura con esso, i cambiamenti della nostra visione si  tradurranno al mondo in cui ci applichiam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312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Trebuchet MS"/>
              </a:rPr>
              <a:t>Questo farà del MSD uno strumento di trasformazione socia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140360" y="260280"/>
            <a:ext cx="48258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Suggeri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42920" y="2673360"/>
            <a:ext cx="7777080" cy="37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’attitudine perseverante di colui che sviluppa un compito, che non si lascia abbattere dalle difficoltà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’attitudine del vero scienziato che intraprende il suo lavoro con forte rigo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’attitudine dei bambini, disponibili allo stupore e all’ammirazione, aperti al nuovo, che possono divertirsi e godersi la magnifica avventura dell’imparare senza limi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125360"/>
            <a:ext cx="7956720" cy="12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Completando quanto detto all’inizio di oggi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è raccomandabile un’attitudine con le seguenti tre qualità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al fine di sviluppare questo tipo di lavor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796000" y="404640"/>
            <a:ext cx="28083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3. La Do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755640" y="115920"/>
          <a:ext cx="1079640" cy="91440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23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N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S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POS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ZI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1042920" y="2421000"/>
            <a:ext cx="7561440" cy="33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66"/>
                </a:solidFill>
                <a:latin typeface="Trebuchet MS"/>
              </a:rPr>
              <a:t>Delimitazione del problema</a:t>
            </a:r>
            <a:r>
              <a:rPr b="1" lang="es-MX" sz="18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Situazione che studiere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66"/>
                </a:solidFill>
                <a:latin typeface="Trebuchet MS"/>
              </a:rPr>
              <a:t>Formulazione della domanda</a:t>
            </a:r>
            <a:r>
              <a:rPr b="1" lang="es-MX" sz="18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Questito puntuale che ci facciamo del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66"/>
                </a:solidFill>
                <a:latin typeface="Trebuchet MS"/>
              </a:rPr>
              <a:t>Definizione dell’oggetto di studio</a:t>
            </a:r>
            <a:r>
              <a:rPr b="1" lang="es-MX" sz="18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Precisazione della struttura oggetto – intere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140360" y="228600"/>
            <a:ext cx="482436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62276"/>
                </a:solidFill>
                <a:latin typeface="Trebuchet MS"/>
              </a:rPr>
              <a:t>Delimitazione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836640"/>
            <a:ext cx="8317080" cy="58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Un Problema è una situazione che non si risolve da sola e che in un certo senso rende difficoltoso o impedisce il nostro avanzamen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Se non abbiamo un problema, non abbiamo bisogno del Metodo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Per poter essere lavorato con metodo, il problema deve essere chiaro e preci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Alcuni punti da tenere in con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Definire l’ambito tema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Sviluppare un ampio interscambio fino a raggiungere accordo ed incastro rispetto al problema da lavor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Riconoscere in esso una difficoltà che ci interessa risolv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Valutare se possiamo contare su sufficiente inform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900" spc="-1" strike="noStrike">
                <a:solidFill>
                  <a:srgbClr val="000000"/>
                </a:solidFill>
                <a:latin typeface="Arial Narrow"/>
              </a:rPr>
              <a:t>Sarà di maggiore interesse se ha conseguenze nelle decisioni che prenderem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419640" y="333360"/>
            <a:ext cx="504000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62276"/>
                </a:solidFill>
                <a:latin typeface="Trebuchet MS"/>
              </a:rPr>
              <a:t>Formulazione della Do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71640" y="1341360"/>
            <a:ext cx="7921440" cy="57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Una Domanda è un quesito puntuale che ci facciamo del Problem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Da un problema possono sorgere diverse doman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Deve essere chiara, semplice e precisa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Evitare che contenga termini vaghi o ambigu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Lo studio ci porterà a rispondere alla domanda che formuliam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La Domanda è un lavoro previo al Metodo, ma quest’ultimo non dice nulla rispetto a come essa sorga nel ricercato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Senza domanda non esiste il punto di applicazione del meto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56000" y="333360"/>
            <a:ext cx="590364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62276"/>
                </a:solidFill>
                <a:latin typeface="Trebuchet MS"/>
              </a:rPr>
              <a:t>Definizione dell’Oggetto di 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1052640"/>
            <a:ext cx="7921440" cy="54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Un Oggetto di Studio è quello verso cui volgiamo la nostra attenzione con l’intenzione di svelarl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Possiamo considerare un oggetto da diversi Punti di Interes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L’interesse ritaglia dell’oggetto certi attributi, certe caratteristiche o qualità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Se cambia l’interesse cambia l’Oggetto di Studi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Non esiste oggetto independente dall’osservato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Il Punto di Interesse deve rimanere fissato durante l’intero stud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Lavorando insieme ad altri, questa definizione esplicita ci assicura che tutti stiamo lavorando sullo stesso Oggetto di Stud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509440" y="189000"/>
            <a:ext cx="35290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 </a:t>
            </a: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Che cos’è un Meto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637000"/>
            <a:ext cx="784872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Continuamente usiamo metodi: nella vita quotidiana, nella tecnologia, nella scienza e nella filosofi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Lo sviluppo della filosofia e della scienza è inimmaginabile se lo separiamo dai relativi metodi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Questi metodi sono strettamente legati allo sviluppo del pensiero e dell’attività uma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Ci focalizzeremo su questi particolari tipi di metodo, che hanno l’obiettivo, da un lato di produrre conoscenza, e dall’altro di potere operare nel mondo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55640" y="1052640"/>
            <a:ext cx="66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Metodo: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 è un insieme di procedimenti, ordinati nel tempo, per giungere ad un f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90560" y="1916280"/>
            <a:ext cx="705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rebuchet MS"/>
              </a:rPr>
              <a:t>dal greco. </a:t>
            </a:r>
            <a:r>
              <a:rPr b="0" i="1" lang="es-ES" sz="1600" spc="-1" strike="noStrike" u="sng">
                <a:solidFill>
                  <a:srgbClr val="000000"/>
                </a:solidFill>
                <a:uFillTx/>
                <a:latin typeface="Trebuchet MS"/>
              </a:rPr>
              <a:t>Met</a:t>
            </a:r>
            <a:r>
              <a:rPr b="0" i="1" lang="es-ES" sz="1600" spc="-1" strike="noStrike">
                <a:solidFill>
                  <a:srgbClr val="000000"/>
                </a:solidFill>
                <a:latin typeface="Trebuchet MS"/>
              </a:rPr>
              <a:t>: “dopo di”, “ciò che sta più in là”. </a:t>
            </a:r>
            <a:r>
              <a:rPr b="0" i="1" lang="es-ES" sz="1600" spc="-1" strike="noStrike" u="sng">
                <a:solidFill>
                  <a:srgbClr val="000000"/>
                </a:solidFill>
                <a:uFillTx/>
                <a:latin typeface="Trebuchet MS"/>
              </a:rPr>
              <a:t>Odos</a:t>
            </a:r>
            <a:r>
              <a:rPr b="0" i="1" lang="es-ES" sz="1600" spc="-1" strike="noStrike">
                <a:solidFill>
                  <a:srgbClr val="000000"/>
                </a:solidFill>
                <a:latin typeface="Trebuchet MS"/>
              </a:rPr>
              <a:t>: cammi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96880" y="222120"/>
            <a:ext cx="67017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L’Esperienza Umana. Esperienza e Pens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928800"/>
            <a:ext cx="741672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urante la sua evoluzione l’essere umano ha organizzato il suo paesaggio esterno ed interno, adattandosi in modo crescente al mondo nella misura in cui lo ha compreso e trasforma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Il pensiero permette di trattenere il trascorrere dei fenomeni del mondo, separarli nei loro elementi costituenti, metterli in relazione con altri fenomeni e capire come si trasformano nel t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ffinché il pensiero possa produrre una migliore comprensione è necessario un meto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5589720"/>
            <a:ext cx="7524720" cy="825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Il metodo sorge come una necessità 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ordinatrice di </a:t>
            </a: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fronte all’esperienza caot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411880" y="260280"/>
            <a:ext cx="36342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I Metodi della Filoso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3465360"/>
            <a:ext cx="69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Fino agli inizi del Rinascimento il metodo della filosofia era discorsivo ed atteneva ciò che succede dopo l’intui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60360" y="5343480"/>
            <a:ext cx="66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A partire da Cartesio l’interesse si sposta su ciò che succede prima dell’intui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341360"/>
            <a:ext cx="669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L’opinione e la conoscen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La conoscenza Intuitiva e Discors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411880" y="260280"/>
            <a:ext cx="36342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I Metodi della Filoso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1628640"/>
            <a:ext cx="7417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La Maieu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ocrate (V secolo a.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Domanda e l’Ir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Il conc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411880" y="260280"/>
            <a:ext cx="36342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I Metodi della Filoso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1628640"/>
            <a:ext cx="7417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La Dialet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latone (427–347 a.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Critica e l’Autocrit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’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411880" y="260280"/>
            <a:ext cx="36342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I Metodi della Filoso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1628640"/>
            <a:ext cx="7417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La Lo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ristotele (384–322 a.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Deduzio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Sost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07:39:36Z</dcterms:created>
  <dc:creator>pc</dc:creator>
  <dc:description/>
  <dc:language>en-US</dc:language>
  <cp:lastModifiedBy>Roberta Consilvio</cp:lastModifiedBy>
  <dcterms:modified xsi:type="dcterms:W3CDTF">2006-12-30T23:29:00Z</dcterms:modified>
  <cp:revision>89</cp:revision>
  <dc:subject/>
  <dc:title>Diapositiva 1</dc:title>
</cp:coreProperties>
</file>