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2434320" y="2434320"/>
            <a:ext cx="55166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4280" y="5194440"/>
            <a:ext cx="56700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2299680" y="2458080"/>
            <a:ext cx="5257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rebuchet MS"/>
              </a:rPr>
              <a:t>METODO STRUTTURALE DINAMICO – Secondo 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4376880" cy="6093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4859280" y="1546200"/>
            <a:ext cx="38577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METOD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STRUTTURALE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DINAMIC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1" name=""/>
          <p:cNvSpPr/>
          <p:nvPr/>
        </p:nvSpPr>
        <p:spPr>
          <a:xfrm>
            <a:off x="5643000" y="4772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Secondo gio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96240" y="44370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SEMINARI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4413240"/>
            <a:ext cx="7632720" cy="1465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rebuchet MS"/>
              </a:rPr>
              <a:t>Il lavoro ci darà una visione totalizzante della Struttura e l’ubicazione del nostro Oggetto di Studio in 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836640"/>
            <a:ext cx="76327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4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Abbiamo analizzato la Struttura differenziando gli Ambiti Maggiore, Medio e Min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4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Abbiamo visto come gli ambiti si complementano tra di l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4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Ora siamo in condizione di sintetizzare una visione integrale della Strut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3120" y="15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30200" y="1197000"/>
            <a:ext cx="720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Questo passo consiste nell’ubicazione “temporale” del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276640"/>
            <a:ext cx="792144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Studieremo l’Oggetto da diversi punti di vi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’idea di “punto di vista” ha connotazioni spaziali. Posso vedere l’Oggetto da sopra, da sotto, davanti, dietro, e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Ogni ubicazione mostrerà diverse immagini del medesimo ogget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Ricordando i miei diversi “sguardi” potrei comporre un’immagine tridimensionale e completa dell’ogget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Questa nuova immagine sarà più integrale perché mi darà una visione totalizzante di 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360" y="222120"/>
            <a:ext cx="540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in Dinamica: Il Mov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Tripla Anal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11760" y="17316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in Dinamica: Il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0200" y="1197000"/>
            <a:ext cx="720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eremo l’Oggetto dai punti di vista  COMPOSITIVO, RELAZIONALE E PROCESSU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220032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Il “punto di vista” è la prospettiva che assume l’osservatore nel considerare l’Oggetto: questo lo coinvolge radicalmente quale parte dello studio, perché è l’osservatore a fissarne il punto di vista ad ogni pa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4360" y="3573360"/>
          <a:ext cx="8388360" cy="2721240"/>
        </p:xfrm>
        <a:graphic>
          <a:graphicData uri="http://schemas.openxmlformats.org/drawingml/2006/table">
            <a:tbl>
              <a:tblPr/>
              <a:tblGrid>
                <a:gridCol w="2879640"/>
                <a:gridCol w="2663640"/>
                <a:gridCol w="2845080"/>
              </a:tblGrid>
              <a:tr h="368280"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UNTI DI 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OS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LAZ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SU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guarda l’esperienza immediata dell’Oggetto di Stu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guarda i legami tra l’Oggetto di Studio e altri oggetti del suo stesso amb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guarda la dinamica dell’Oggetto di Stu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leva la struttura degli elementi che lo compon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leva la struttura delle relazioni tra gli ogge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leva i cambiamenti dell’Oggetto nel t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UARDO DEL CONTAD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UARDO DELL’AVIA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UARDO DELL’ASTRONA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76500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o studio del Processo considera l’Oggetto di Studio in mo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623960"/>
            <a:ext cx="71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L’Oggetto non è congelato nel tempo ma è sorto in qualche momento e ha subito variazioni che lo hanno portato a modificar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4200" y="2608200"/>
            <a:ext cx="83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econdo le Legge di Ciclo, un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ocesso di tipo evolutiv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ci mostra 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3178080"/>
            <a:ext cx="7921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Il nostro Oggetto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è sort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in un momento d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eguendo un certo ritmo di accelerazioni e decelerazioni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va cambiand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, trasformandosi, diventando sempre più compl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In questo modo da migliori risposte alle variazioni dell’ambiente fino ad arrivare al suo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momento di apoge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, dove si esprime con la maggiore pienez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 partire da questo momento comincia il suo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declin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, che può essere lento (fino alla dissoluzione) o terminare in modo brus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836640"/>
            <a:ext cx="28728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55736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ssiamo rappresentare il Ciclo come un cerchio che, cominciando in un punto,si sviluppa fino all’apogeo ed in seguito declina, in una specie di ritorno alla sua orig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407664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Questi cicli non sono chiusi, anzi nella loro tappa finale sorgono nuovi fenomeni, elementi progressivi che permettono che un nuovo ciclo continui il precedente, in una sorta di spirale ap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443640" y="1700280"/>
            <a:ext cx="2160720" cy="1944720"/>
            <a:chOff x="6443640" y="1700280"/>
            <a:chExt cx="2160720" cy="1944720"/>
          </a:xfrm>
        </p:grpSpPr>
        <p:sp>
          <p:nvSpPr>
            <p:cNvPr id="158" name=""/>
            <p:cNvSpPr/>
            <p:nvPr/>
          </p:nvSpPr>
          <p:spPr>
            <a:xfrm>
              <a:off x="6516720" y="1700280"/>
              <a:ext cx="2087640" cy="19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43640" y="2565720"/>
              <a:ext cx="1429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3240" y="2419560"/>
              <a:ext cx="146160" cy="12060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0" y="0"/>
                  </a:moveTo>
                  <a:lnTo>
                    <a:pt x="32" y="76"/>
                  </a:lnTo>
                  <a:lnTo>
                    <a:pt x="92" y="2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88000" y="416736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26920" y="765000"/>
            <a:ext cx="78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Questa unità del processo è detta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1206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dinamica di un processo evolutivo ci mos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844640"/>
            <a:ext cx="712800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l nostro Oggetto in movim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he si trasforma senza perdere la sua identità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scrivendo cicli concatenati gli uni agli altr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n una tendenza al superamento dei momenti preced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300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Non tutti i processi seguono la stessa dina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981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ssiamo osservare processi con dinamiche speci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773360"/>
            <a:ext cx="7956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INVOLU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’oggetto retrocede a forme precedenti già superate, invece di avanzare verso forme più complesse di maggiore adatta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484440"/>
            <a:ext cx="7956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CRISTALLIZZ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I cambiamenti dell’oggetto rallentano fino ad arrivare ad uno stato dove sembra che i movimenti si fermi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4869000"/>
            <a:ext cx="7956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DI CAMBIAMENTO RADI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I cambiamenti sono tanto profondi che possiamo dire che il nostro oggetto si è trasformato in un altro, perdendo la sua identità d’orig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1206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 lo studio del processo utilizzeremo degli schemi, delle figure geometriche basila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068640"/>
            <a:ext cx="80661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u questi schemi costruiremo diverse scale di tipo ordinale ch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no insiemi ordinati di val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no esaustive 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(contemplano tutte le osservazioni possibili)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ndividuano un ordine implic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Hanno posizioni mutuamente esclud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5727600"/>
            <a:ext cx="61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Le scale sono strumenti teorici di sostegno, che guidano nell’ordinamento dell’anali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198900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Ci permettono di apprezzare le linee fondamentali di una cosa o situazione e, presentando relazioni a priori del loro utilizzo, ci saranno di grande utili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2420640"/>
            <a:ext cx="3097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in 4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49360"/>
            <a:ext cx="432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CHEMA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2420640"/>
            <a:ext cx="3097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in 12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00" y="1125360"/>
            <a:ext cx="67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 seconda dello studio, useremo l’uno o l’altro sch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in 4 posizioni per uno studio sempl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in 12 posizioni per uno studio più comp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1520" y="3213000"/>
            <a:ext cx="3462840" cy="2703960"/>
            <a:chOff x="821520" y="3213000"/>
            <a:chExt cx="3462840" cy="2703960"/>
          </a:xfrm>
        </p:grpSpPr>
        <p:sp>
          <p:nvSpPr>
            <p:cNvPr id="183" name=""/>
            <p:cNvSpPr/>
            <p:nvPr/>
          </p:nvSpPr>
          <p:spPr>
            <a:xfrm>
              <a:off x="1146600" y="3213000"/>
              <a:ext cx="3137760" cy="2649960"/>
            </a:xfrm>
            <a:prstGeom prst="donut">
              <a:avLst>
                <a:gd name="adj" fmla="val 1048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668200">
              <a:off x="4087440" y="4490280"/>
              <a:ext cx="117360" cy="212040"/>
            </a:xfrm>
            <a:custGeom>
              <a:avLst/>
              <a:gdLst/>
              <a:ahLst/>
              <a:rect l="l" t="t" r="r" b="b"/>
              <a:pathLst>
                <a:path w="192" h="344">
                  <a:moveTo>
                    <a:pt x="0" y="8"/>
                  </a:moveTo>
                  <a:lnTo>
                    <a:pt x="152" y="344"/>
                  </a:lnTo>
                  <a:lnTo>
                    <a:pt x="192" y="320"/>
                  </a:lnTo>
                  <a:lnTo>
                    <a:pt x="2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9640" y="4640400"/>
              <a:ext cx="137520" cy="21960"/>
            </a:xfrm>
            <a:custGeom>
              <a:avLst/>
              <a:gdLst/>
              <a:ahLst/>
              <a:rect l="l" t="t" r="r" b="b"/>
              <a:pathLst>
                <a:path w="224" h="36">
                  <a:moveTo>
                    <a:pt x="0" y="32"/>
                  </a:moveTo>
                  <a:lnTo>
                    <a:pt x="216" y="36"/>
                  </a:lnTo>
                  <a:lnTo>
                    <a:pt x="224" y="4"/>
                  </a:lnTo>
                  <a:lnTo>
                    <a:pt x="12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884800">
              <a:off x="2750040" y="5688360"/>
              <a:ext cx="55800" cy="189720"/>
            </a:xfrm>
            <a:custGeom>
              <a:avLst/>
              <a:gdLst/>
              <a:ahLst/>
              <a:rect l="l" t="t" r="r" b="b"/>
              <a:pathLst>
                <a:path w="92" h="308">
                  <a:moveTo>
                    <a:pt x="56" y="0"/>
                  </a:moveTo>
                  <a:lnTo>
                    <a:pt x="0" y="304"/>
                  </a:lnTo>
                  <a:lnTo>
                    <a:pt x="36" y="308"/>
                  </a:lnTo>
                  <a:lnTo>
                    <a:pt x="92" y="1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884800">
              <a:off x="2924280" y="3456720"/>
              <a:ext cx="55800" cy="189720"/>
            </a:xfrm>
            <a:custGeom>
              <a:avLst/>
              <a:gdLst/>
              <a:ahLst/>
              <a:rect l="l" t="t" r="r" b="b"/>
              <a:pathLst>
                <a:path w="92" h="308">
                  <a:moveTo>
                    <a:pt x="56" y="0"/>
                  </a:moveTo>
                  <a:lnTo>
                    <a:pt x="0" y="304"/>
                  </a:lnTo>
                  <a:lnTo>
                    <a:pt x="36" y="308"/>
                  </a:lnTo>
                  <a:lnTo>
                    <a:pt x="92" y="1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821520" y="3785760"/>
              <a:ext cx="1137240" cy="2131200"/>
              <a:chOff x="821520" y="3785760"/>
              <a:chExt cx="1137240" cy="2131200"/>
            </a:xfrm>
          </p:grpSpPr>
          <p:sp>
            <p:nvSpPr>
              <p:cNvPr id="189" name=""/>
              <p:cNvSpPr/>
              <p:nvPr/>
            </p:nvSpPr>
            <p:spPr>
              <a:xfrm flipH="1" rot="15541200">
                <a:off x="378360" y="4467960"/>
                <a:ext cx="2022480" cy="766440"/>
              </a:xfrm>
              <a:custGeom>
                <a:avLst/>
                <a:gdLst>
                  <a:gd name="textAreaLeft" fmla="*/ 0 w 2022480"/>
                  <a:gd name="textAreaRight" fmla="*/ 2022480 w 202248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32" y="16463"/>
                    </a:moveTo>
                    <a:arcTo wR="-5995" hR="-5995" stAng="6549798" swAng="-3581212"/>
                    <a:lnTo>
                      <a:pt x="3783" y="2591"/>
                    </a:lnTo>
                    <a:arcTo wR="10800" hR="10800" stAng="-7831414" swAng="3581212"/>
                    <a:lnTo>
                      <a:pt x="15232" y="-1952"/>
                    </a:lnTo>
                    <a:lnTo>
                      <a:pt x="18376" y="4543"/>
                    </a:lnTo>
                    <a:lnTo>
                      <a:pt x="11882" y="768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282000">
                <a:off x="971640" y="4430880"/>
                <a:ext cx="279000" cy="20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948680" y="3805560"/>
              <a:ext cx="349560" cy="31428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5680" y="3770280"/>
              <a:ext cx="349560" cy="31428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7720" y="5234760"/>
              <a:ext cx="349560" cy="31428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9480" y="5234760"/>
              <a:ext cx="349560" cy="31428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173840" y="3141720"/>
            <a:ext cx="4645800" cy="3383280"/>
            <a:chOff x="4173840" y="3141720"/>
            <a:chExt cx="4645800" cy="3383280"/>
          </a:xfrm>
        </p:grpSpPr>
        <p:sp>
          <p:nvSpPr>
            <p:cNvPr id="196" name=""/>
            <p:cNvSpPr/>
            <p:nvPr/>
          </p:nvSpPr>
          <p:spPr>
            <a:xfrm>
              <a:off x="4720320" y="3141720"/>
              <a:ext cx="4077360" cy="3268800"/>
            </a:xfrm>
            <a:prstGeom prst="donut">
              <a:avLst>
                <a:gd name="adj" fmla="val 1048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72840" y="4921560"/>
              <a:ext cx="2362320" cy="1478520"/>
            </a:xfrm>
            <a:custGeom>
              <a:avLst/>
              <a:gdLst/>
              <a:ahLst/>
              <a:rect l="l" t="t" r="r" b="b"/>
              <a:pathLst>
                <a:path w="2957" h="1949">
                  <a:moveTo>
                    <a:pt x="62" y="3"/>
                  </a:moveTo>
                  <a:lnTo>
                    <a:pt x="50" y="51"/>
                  </a:lnTo>
                  <a:cubicBezTo>
                    <a:pt x="43" y="87"/>
                    <a:pt x="28" y="151"/>
                    <a:pt x="20" y="219"/>
                  </a:cubicBezTo>
                  <a:cubicBezTo>
                    <a:pt x="12" y="287"/>
                    <a:pt x="0" y="372"/>
                    <a:pt x="2" y="462"/>
                  </a:cubicBezTo>
                  <a:cubicBezTo>
                    <a:pt x="4" y="552"/>
                    <a:pt x="6" y="646"/>
                    <a:pt x="35" y="759"/>
                  </a:cubicBezTo>
                  <a:cubicBezTo>
                    <a:pt x="64" y="872"/>
                    <a:pt x="110" y="1020"/>
                    <a:pt x="179" y="1140"/>
                  </a:cubicBezTo>
                  <a:cubicBezTo>
                    <a:pt x="248" y="1260"/>
                    <a:pt x="353" y="1387"/>
                    <a:pt x="452" y="1479"/>
                  </a:cubicBezTo>
                  <a:cubicBezTo>
                    <a:pt x="551" y="1571"/>
                    <a:pt x="667" y="1637"/>
                    <a:pt x="773" y="1695"/>
                  </a:cubicBezTo>
                  <a:cubicBezTo>
                    <a:pt x="879" y="1753"/>
                    <a:pt x="926" y="1787"/>
                    <a:pt x="1088" y="1827"/>
                  </a:cubicBezTo>
                  <a:cubicBezTo>
                    <a:pt x="1250" y="1867"/>
                    <a:pt x="1573" y="1921"/>
                    <a:pt x="1748" y="1935"/>
                  </a:cubicBezTo>
                  <a:cubicBezTo>
                    <a:pt x="1923" y="1949"/>
                    <a:pt x="2014" y="1929"/>
                    <a:pt x="2141" y="1914"/>
                  </a:cubicBezTo>
                  <a:cubicBezTo>
                    <a:pt x="2268" y="1899"/>
                    <a:pt x="2409" y="1869"/>
                    <a:pt x="2513" y="1845"/>
                  </a:cubicBezTo>
                  <a:lnTo>
                    <a:pt x="2768" y="1770"/>
                  </a:lnTo>
                  <a:lnTo>
                    <a:pt x="2957" y="1695"/>
                  </a:lnTo>
                  <a:lnTo>
                    <a:pt x="2816" y="1362"/>
                  </a:lnTo>
                  <a:lnTo>
                    <a:pt x="2678" y="1425"/>
                  </a:lnTo>
                  <a:cubicBezTo>
                    <a:pt x="2616" y="1447"/>
                    <a:pt x="2522" y="1475"/>
                    <a:pt x="2444" y="1497"/>
                  </a:cubicBezTo>
                  <a:cubicBezTo>
                    <a:pt x="2366" y="1519"/>
                    <a:pt x="2290" y="1539"/>
                    <a:pt x="2210" y="1557"/>
                  </a:cubicBezTo>
                  <a:cubicBezTo>
                    <a:pt x="2130" y="1575"/>
                    <a:pt x="2058" y="1597"/>
                    <a:pt x="1961" y="1605"/>
                  </a:cubicBezTo>
                  <a:cubicBezTo>
                    <a:pt x="1864" y="1613"/>
                    <a:pt x="1753" y="1620"/>
                    <a:pt x="1625" y="1608"/>
                  </a:cubicBezTo>
                  <a:cubicBezTo>
                    <a:pt x="1497" y="1596"/>
                    <a:pt x="1354" y="1592"/>
                    <a:pt x="1190" y="1530"/>
                  </a:cubicBezTo>
                  <a:cubicBezTo>
                    <a:pt x="1026" y="1468"/>
                    <a:pt x="778" y="1347"/>
                    <a:pt x="638" y="1233"/>
                  </a:cubicBezTo>
                  <a:cubicBezTo>
                    <a:pt x="498" y="1119"/>
                    <a:pt x="416" y="954"/>
                    <a:pt x="353" y="846"/>
                  </a:cubicBezTo>
                  <a:cubicBezTo>
                    <a:pt x="290" y="738"/>
                    <a:pt x="276" y="657"/>
                    <a:pt x="257" y="585"/>
                  </a:cubicBezTo>
                  <a:cubicBezTo>
                    <a:pt x="238" y="513"/>
                    <a:pt x="243" y="467"/>
                    <a:pt x="242" y="414"/>
                  </a:cubicBezTo>
                  <a:cubicBezTo>
                    <a:pt x="241" y="361"/>
                    <a:pt x="241" y="328"/>
                    <a:pt x="248" y="264"/>
                  </a:cubicBezTo>
                  <a:cubicBezTo>
                    <a:pt x="255" y="200"/>
                    <a:pt x="278" y="71"/>
                    <a:pt x="284" y="27"/>
                  </a:cubicBezTo>
                  <a:lnTo>
                    <a:pt x="287" y="0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2240" y="3802680"/>
              <a:ext cx="1408320" cy="2414520"/>
            </a:xfrm>
            <a:custGeom>
              <a:avLst/>
              <a:gdLst/>
              <a:ahLst/>
              <a:rect l="l" t="t" r="r" b="b"/>
              <a:pathLst>
                <a:path w="1763" h="3183">
                  <a:moveTo>
                    <a:pt x="131" y="3183"/>
                  </a:moveTo>
                  <a:lnTo>
                    <a:pt x="191" y="3147"/>
                  </a:lnTo>
                  <a:cubicBezTo>
                    <a:pt x="235" y="3123"/>
                    <a:pt x="325" y="3075"/>
                    <a:pt x="395" y="3039"/>
                  </a:cubicBezTo>
                  <a:cubicBezTo>
                    <a:pt x="465" y="3003"/>
                    <a:pt x="500" y="3009"/>
                    <a:pt x="611" y="2931"/>
                  </a:cubicBezTo>
                  <a:cubicBezTo>
                    <a:pt x="722" y="2853"/>
                    <a:pt x="922" y="2711"/>
                    <a:pt x="1063" y="2571"/>
                  </a:cubicBezTo>
                  <a:cubicBezTo>
                    <a:pt x="1204" y="2431"/>
                    <a:pt x="1347" y="2267"/>
                    <a:pt x="1455" y="2091"/>
                  </a:cubicBezTo>
                  <a:cubicBezTo>
                    <a:pt x="1563" y="1915"/>
                    <a:pt x="1663" y="1711"/>
                    <a:pt x="1712" y="1518"/>
                  </a:cubicBezTo>
                  <a:cubicBezTo>
                    <a:pt x="1761" y="1325"/>
                    <a:pt x="1763" y="1100"/>
                    <a:pt x="1751" y="936"/>
                  </a:cubicBezTo>
                  <a:cubicBezTo>
                    <a:pt x="1739" y="772"/>
                    <a:pt x="1694" y="657"/>
                    <a:pt x="1639" y="535"/>
                  </a:cubicBezTo>
                  <a:cubicBezTo>
                    <a:pt x="1584" y="413"/>
                    <a:pt x="1484" y="285"/>
                    <a:pt x="1421" y="204"/>
                  </a:cubicBezTo>
                  <a:cubicBezTo>
                    <a:pt x="1358" y="123"/>
                    <a:pt x="1294" y="85"/>
                    <a:pt x="1259" y="51"/>
                  </a:cubicBezTo>
                  <a:lnTo>
                    <a:pt x="1208" y="0"/>
                  </a:lnTo>
                  <a:lnTo>
                    <a:pt x="914" y="234"/>
                  </a:lnTo>
                  <a:lnTo>
                    <a:pt x="962" y="267"/>
                  </a:lnTo>
                  <a:cubicBezTo>
                    <a:pt x="1000" y="310"/>
                    <a:pt x="1092" y="416"/>
                    <a:pt x="1142" y="495"/>
                  </a:cubicBezTo>
                  <a:cubicBezTo>
                    <a:pt x="1192" y="574"/>
                    <a:pt x="1234" y="664"/>
                    <a:pt x="1263" y="739"/>
                  </a:cubicBezTo>
                  <a:cubicBezTo>
                    <a:pt x="1298" y="812"/>
                    <a:pt x="1306" y="875"/>
                    <a:pt x="1315" y="943"/>
                  </a:cubicBezTo>
                  <a:cubicBezTo>
                    <a:pt x="1324" y="996"/>
                    <a:pt x="1318" y="1026"/>
                    <a:pt x="1319" y="1055"/>
                  </a:cubicBezTo>
                  <a:cubicBezTo>
                    <a:pt x="1320" y="1084"/>
                    <a:pt x="1329" y="1042"/>
                    <a:pt x="1319" y="1115"/>
                  </a:cubicBezTo>
                  <a:cubicBezTo>
                    <a:pt x="1309" y="1188"/>
                    <a:pt x="1311" y="1341"/>
                    <a:pt x="1256" y="1494"/>
                  </a:cubicBezTo>
                  <a:cubicBezTo>
                    <a:pt x="1201" y="1647"/>
                    <a:pt x="1104" y="1868"/>
                    <a:pt x="991" y="2031"/>
                  </a:cubicBezTo>
                  <a:cubicBezTo>
                    <a:pt x="878" y="2194"/>
                    <a:pt x="720" y="2351"/>
                    <a:pt x="575" y="2475"/>
                  </a:cubicBezTo>
                  <a:cubicBezTo>
                    <a:pt x="430" y="2599"/>
                    <a:pt x="218" y="2717"/>
                    <a:pt x="122" y="2778"/>
                  </a:cubicBezTo>
                  <a:lnTo>
                    <a:pt x="0" y="2838"/>
                  </a:lnTo>
                  <a:lnTo>
                    <a:pt x="131" y="3183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7840" y="3422160"/>
              <a:ext cx="3156480" cy="1501920"/>
            </a:xfrm>
            <a:custGeom>
              <a:avLst/>
              <a:gdLst/>
              <a:ahLst/>
              <a:rect l="l" t="t" r="r" b="b"/>
              <a:pathLst>
                <a:path w="3160" h="1584">
                  <a:moveTo>
                    <a:pt x="3160" y="401"/>
                  </a:moveTo>
                  <a:lnTo>
                    <a:pt x="3077" y="322"/>
                  </a:lnTo>
                  <a:cubicBezTo>
                    <a:pt x="3029" y="287"/>
                    <a:pt x="2931" y="224"/>
                    <a:pt x="2873" y="190"/>
                  </a:cubicBezTo>
                  <a:cubicBezTo>
                    <a:pt x="2815" y="156"/>
                    <a:pt x="2819" y="144"/>
                    <a:pt x="2729" y="118"/>
                  </a:cubicBezTo>
                  <a:cubicBezTo>
                    <a:pt x="2639" y="92"/>
                    <a:pt x="2463" y="52"/>
                    <a:pt x="2333" y="34"/>
                  </a:cubicBezTo>
                  <a:cubicBezTo>
                    <a:pt x="2203" y="16"/>
                    <a:pt x="2075" y="0"/>
                    <a:pt x="1949" y="10"/>
                  </a:cubicBezTo>
                  <a:cubicBezTo>
                    <a:pt x="1823" y="20"/>
                    <a:pt x="1711" y="54"/>
                    <a:pt x="1577" y="94"/>
                  </a:cubicBezTo>
                  <a:cubicBezTo>
                    <a:pt x="1443" y="134"/>
                    <a:pt x="1297" y="170"/>
                    <a:pt x="1145" y="250"/>
                  </a:cubicBezTo>
                  <a:cubicBezTo>
                    <a:pt x="993" y="330"/>
                    <a:pt x="791" y="478"/>
                    <a:pt x="665" y="574"/>
                  </a:cubicBezTo>
                  <a:cubicBezTo>
                    <a:pt x="539" y="670"/>
                    <a:pt x="467" y="742"/>
                    <a:pt x="389" y="826"/>
                  </a:cubicBezTo>
                  <a:cubicBezTo>
                    <a:pt x="311" y="910"/>
                    <a:pt x="244" y="995"/>
                    <a:pt x="197" y="1078"/>
                  </a:cubicBezTo>
                  <a:cubicBezTo>
                    <a:pt x="150" y="1161"/>
                    <a:pt x="130" y="1267"/>
                    <a:pt x="106" y="1325"/>
                  </a:cubicBezTo>
                  <a:lnTo>
                    <a:pt x="54" y="1427"/>
                  </a:lnTo>
                  <a:lnTo>
                    <a:pt x="0" y="1584"/>
                  </a:lnTo>
                  <a:lnTo>
                    <a:pt x="178" y="1577"/>
                  </a:lnTo>
                  <a:lnTo>
                    <a:pt x="180" y="1558"/>
                  </a:lnTo>
                  <a:cubicBezTo>
                    <a:pt x="193" y="1521"/>
                    <a:pt x="218" y="1434"/>
                    <a:pt x="256" y="1357"/>
                  </a:cubicBezTo>
                  <a:cubicBezTo>
                    <a:pt x="294" y="1280"/>
                    <a:pt x="337" y="1193"/>
                    <a:pt x="413" y="1098"/>
                  </a:cubicBezTo>
                  <a:cubicBezTo>
                    <a:pt x="489" y="1002"/>
                    <a:pt x="604" y="878"/>
                    <a:pt x="710" y="787"/>
                  </a:cubicBezTo>
                  <a:cubicBezTo>
                    <a:pt x="817" y="697"/>
                    <a:pt x="913" y="627"/>
                    <a:pt x="1053" y="554"/>
                  </a:cubicBezTo>
                  <a:cubicBezTo>
                    <a:pt x="1192" y="481"/>
                    <a:pt x="1372" y="394"/>
                    <a:pt x="1548" y="349"/>
                  </a:cubicBezTo>
                  <a:cubicBezTo>
                    <a:pt x="1724" y="304"/>
                    <a:pt x="1933" y="279"/>
                    <a:pt x="2108" y="285"/>
                  </a:cubicBezTo>
                  <a:cubicBezTo>
                    <a:pt x="2283" y="291"/>
                    <a:pt x="2482" y="351"/>
                    <a:pt x="2601" y="387"/>
                  </a:cubicBezTo>
                  <a:cubicBezTo>
                    <a:pt x="2720" y="423"/>
                    <a:pt x="2774" y="471"/>
                    <a:pt x="2825" y="499"/>
                  </a:cubicBezTo>
                  <a:cubicBezTo>
                    <a:pt x="2875" y="528"/>
                    <a:pt x="2885" y="546"/>
                    <a:pt x="2902" y="560"/>
                  </a:cubicBezTo>
                  <a:lnTo>
                    <a:pt x="2927" y="586"/>
                  </a:lnTo>
                  <a:lnTo>
                    <a:pt x="3160" y="40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8200" y="3700080"/>
              <a:ext cx="66960" cy="139320"/>
            </a:xfrm>
            <a:custGeom>
              <a:avLst/>
              <a:gdLst/>
              <a:ahLst/>
              <a:rect l="l" t="t" r="r" b="b"/>
              <a:pathLst>
                <a:path w="84" h="184">
                  <a:moveTo>
                    <a:pt x="0" y="8"/>
                  </a:moveTo>
                  <a:lnTo>
                    <a:pt x="56" y="184"/>
                  </a:lnTo>
                  <a:lnTo>
                    <a:pt x="84" y="176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6400" y="3525480"/>
              <a:ext cx="53640" cy="172440"/>
            </a:xfrm>
            <a:custGeom>
              <a:avLst/>
              <a:gdLst/>
              <a:ahLst/>
              <a:rect l="l" t="t" r="r" b="b"/>
              <a:pathLst>
                <a:path w="68" h="228">
                  <a:moveTo>
                    <a:pt x="24" y="4"/>
                  </a:moveTo>
                  <a:lnTo>
                    <a:pt x="0" y="224"/>
                  </a:lnTo>
                  <a:lnTo>
                    <a:pt x="40" y="228"/>
                  </a:lnTo>
                  <a:lnTo>
                    <a:pt x="68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17640" y="3828960"/>
              <a:ext cx="242280" cy="187560"/>
            </a:xfrm>
            <a:custGeom>
              <a:avLst/>
              <a:gdLst/>
              <a:ahLst/>
              <a:rect l="l" t="t" r="r" b="b"/>
              <a:pathLst>
                <a:path w="304" h="248">
                  <a:moveTo>
                    <a:pt x="280" y="0"/>
                  </a:moveTo>
                  <a:lnTo>
                    <a:pt x="0" y="228"/>
                  </a:lnTo>
                  <a:lnTo>
                    <a:pt x="24" y="248"/>
                  </a:lnTo>
                  <a:lnTo>
                    <a:pt x="304" y="16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13200" y="4335480"/>
              <a:ext cx="338400" cy="124200"/>
            </a:xfrm>
            <a:custGeom>
              <a:avLst/>
              <a:gdLst/>
              <a:ahLst/>
              <a:rect l="l" t="t" r="r" b="b"/>
              <a:pathLst>
                <a:path w="424" h="164">
                  <a:moveTo>
                    <a:pt x="0" y="136"/>
                  </a:moveTo>
                  <a:lnTo>
                    <a:pt x="8" y="164"/>
                  </a:lnTo>
                  <a:lnTo>
                    <a:pt x="424" y="32"/>
                  </a:lnTo>
                  <a:lnTo>
                    <a:pt x="416" y="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35160" y="4899960"/>
              <a:ext cx="311400" cy="24480"/>
            </a:xfrm>
            <a:custGeom>
              <a:avLst/>
              <a:gdLst/>
              <a:ahLst/>
              <a:rect l="l" t="t" r="r" b="b"/>
              <a:pathLst>
                <a:path w="312" h="26">
                  <a:moveTo>
                    <a:pt x="0" y="26"/>
                  </a:moveTo>
                  <a:lnTo>
                    <a:pt x="288" y="24"/>
                  </a:lnTo>
                  <a:lnTo>
                    <a:pt x="312" y="0"/>
                  </a:lnTo>
                  <a:lnTo>
                    <a:pt x="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2640" y="5497200"/>
              <a:ext cx="313560" cy="17352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0" y="24"/>
                  </a:moveTo>
                  <a:lnTo>
                    <a:pt x="364" y="228"/>
                  </a:lnTo>
                  <a:lnTo>
                    <a:pt x="392" y="200"/>
                  </a:lnTo>
                  <a:lnTo>
                    <a:pt x="2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47600" y="5976360"/>
              <a:ext cx="152640" cy="261720"/>
            </a:xfrm>
            <a:custGeom>
              <a:avLst/>
              <a:gdLst/>
              <a:ahLst/>
              <a:rect l="l" t="t" r="r" b="b"/>
              <a:pathLst>
                <a:path w="192" h="344">
                  <a:moveTo>
                    <a:pt x="0" y="8"/>
                  </a:moveTo>
                  <a:lnTo>
                    <a:pt x="152" y="344"/>
                  </a:lnTo>
                  <a:lnTo>
                    <a:pt x="192" y="320"/>
                  </a:lnTo>
                  <a:lnTo>
                    <a:pt x="2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17840" y="4902840"/>
              <a:ext cx="178920" cy="27360"/>
            </a:xfrm>
            <a:custGeom>
              <a:avLst/>
              <a:gdLst/>
              <a:ahLst/>
              <a:rect l="l" t="t" r="r" b="b"/>
              <a:pathLst>
                <a:path w="224" h="36">
                  <a:moveTo>
                    <a:pt x="0" y="32"/>
                  </a:moveTo>
                  <a:lnTo>
                    <a:pt x="216" y="36"/>
                  </a:lnTo>
                  <a:lnTo>
                    <a:pt x="224" y="4"/>
                  </a:lnTo>
                  <a:lnTo>
                    <a:pt x="12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02000" y="5418720"/>
              <a:ext cx="197640" cy="87840"/>
            </a:xfrm>
            <a:custGeom>
              <a:avLst/>
              <a:gdLst/>
              <a:ahLst/>
              <a:rect l="l" t="t" r="r" b="b"/>
              <a:pathLst>
                <a:path w="248" h="116">
                  <a:moveTo>
                    <a:pt x="0" y="88"/>
                  </a:moveTo>
                  <a:lnTo>
                    <a:pt x="0" y="116"/>
                  </a:lnTo>
                  <a:lnTo>
                    <a:pt x="248" y="32"/>
                  </a:lnTo>
                  <a:lnTo>
                    <a:pt x="24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70280" y="5893560"/>
              <a:ext cx="201600" cy="172440"/>
            </a:xfrm>
            <a:custGeom>
              <a:avLst/>
              <a:gdLst/>
              <a:ahLst/>
              <a:rect l="l" t="t" r="r" b="b"/>
              <a:pathLst>
                <a:path w="252" h="228">
                  <a:moveTo>
                    <a:pt x="228" y="0"/>
                  </a:moveTo>
                  <a:lnTo>
                    <a:pt x="0" y="209"/>
                  </a:lnTo>
                  <a:lnTo>
                    <a:pt x="20" y="228"/>
                  </a:lnTo>
                  <a:lnTo>
                    <a:pt x="25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24560" y="6137280"/>
              <a:ext cx="72720" cy="234360"/>
            </a:xfrm>
            <a:custGeom>
              <a:avLst/>
              <a:gdLst/>
              <a:ahLst/>
              <a:rect l="l" t="t" r="r" b="b"/>
              <a:pathLst>
                <a:path w="92" h="308">
                  <a:moveTo>
                    <a:pt x="56" y="0"/>
                  </a:moveTo>
                  <a:lnTo>
                    <a:pt x="0" y="304"/>
                  </a:lnTo>
                  <a:lnTo>
                    <a:pt x="36" y="308"/>
                  </a:lnTo>
                  <a:lnTo>
                    <a:pt x="92" y="1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5360" y="4236120"/>
              <a:ext cx="146520" cy="81360"/>
            </a:xfrm>
            <a:custGeom>
              <a:avLst/>
              <a:gdLst/>
              <a:ahLst/>
              <a:rect l="l" t="t" r="r" b="b"/>
              <a:pathLst>
                <a:path w="184" h="108">
                  <a:moveTo>
                    <a:pt x="0" y="28"/>
                  </a:moveTo>
                  <a:lnTo>
                    <a:pt x="164" y="108"/>
                  </a:lnTo>
                  <a:lnTo>
                    <a:pt x="184" y="88"/>
                  </a:lnTo>
                  <a:lnTo>
                    <a:pt x="2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3560" y="4345920"/>
              <a:ext cx="454320" cy="387720"/>
            </a:xfrm>
            <a:prstGeom prst="ellipse">
              <a:avLst/>
            </a:prstGeom>
            <a:solidFill>
              <a:srgbClr val="dddddd">
                <a:alpha val="52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7880" y="3743640"/>
              <a:ext cx="454320" cy="387720"/>
            </a:xfrm>
            <a:prstGeom prst="ellipse">
              <a:avLst/>
            </a:prstGeom>
            <a:solidFill>
              <a:srgbClr val="dddddd">
                <a:alpha val="52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58280" y="3442320"/>
              <a:ext cx="454320" cy="387720"/>
            </a:xfrm>
            <a:prstGeom prst="ellipse">
              <a:avLst/>
            </a:prstGeom>
            <a:solidFill>
              <a:srgbClr val="dddddd">
                <a:alpha val="52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0120" y="3528360"/>
              <a:ext cx="454320" cy="387720"/>
            </a:xfrm>
            <a:prstGeom prst="ellipse">
              <a:avLst/>
            </a:prstGeom>
            <a:solidFill>
              <a:srgbClr val="dddddd">
                <a:alpha val="52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63720" y="3915360"/>
              <a:ext cx="475200" cy="387000"/>
            </a:xfrm>
            <a:prstGeom prst="ellipse">
              <a:avLst/>
            </a:prstGeom>
            <a:solidFill>
              <a:srgbClr val="dddddd">
                <a:alpha val="55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4440" y="4474800"/>
              <a:ext cx="475200" cy="386640"/>
            </a:xfrm>
            <a:prstGeom prst="ellipse">
              <a:avLst/>
            </a:prstGeom>
            <a:solidFill>
              <a:srgbClr val="dddddd">
                <a:alpha val="55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63720" y="5077080"/>
              <a:ext cx="475200" cy="386640"/>
            </a:xfrm>
            <a:prstGeom prst="ellipse">
              <a:avLst/>
            </a:prstGeom>
            <a:solidFill>
              <a:srgbClr val="dddddd">
                <a:alpha val="55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4400" y="5679360"/>
              <a:ext cx="475200" cy="387000"/>
            </a:xfrm>
            <a:prstGeom prst="ellipse">
              <a:avLst/>
            </a:prstGeom>
            <a:solidFill>
              <a:srgbClr val="dddddd">
                <a:alpha val="55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13280" y="6023520"/>
              <a:ext cx="454320" cy="38772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1080" y="5979960"/>
              <a:ext cx="454320" cy="38772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17840" y="5592960"/>
              <a:ext cx="454320" cy="38772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82120" y="4991040"/>
              <a:ext cx="454320" cy="387720"/>
            </a:xfrm>
            <a:prstGeom prst="ellipse">
              <a:avLst/>
            </a:prstGeom>
            <a:solidFill>
              <a:srgbClr val="dddddd">
                <a:alpha val="46000"/>
              </a:srgbClr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73840" y="3885840"/>
              <a:ext cx="1452240" cy="2639160"/>
              <a:chOff x="4173840" y="3885840"/>
              <a:chExt cx="1452240" cy="2639160"/>
            </a:xfrm>
          </p:grpSpPr>
          <p:sp>
            <p:nvSpPr>
              <p:cNvPr id="225" name=""/>
              <p:cNvSpPr/>
              <p:nvPr/>
            </p:nvSpPr>
            <p:spPr>
              <a:xfrm flipH="1" rot="15541200">
                <a:off x="3652200" y="4707360"/>
                <a:ext cx="2495160" cy="995760"/>
              </a:xfrm>
              <a:custGeom>
                <a:avLst/>
                <a:gdLst>
                  <a:gd name="textAreaLeft" fmla="*/ -360 w 2495160"/>
                  <a:gd name="textAreaRight" fmla="*/ 2495160 w 2495160"/>
                  <a:gd name="textAreaTop" fmla="*/ 0 h 995760"/>
                  <a:gd name="textAreaBottom" fmla="*/ 996120 h 99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32" y="16463"/>
                    </a:moveTo>
                    <a:arcTo wR="-5995" hR="-5995" stAng="6549798" swAng="-3581212"/>
                    <a:lnTo>
                      <a:pt x="3783" y="2591"/>
                    </a:lnTo>
                    <a:arcTo wR="10800" hR="10800" stAng="-7831414" swAng="3581212"/>
                    <a:lnTo>
                      <a:pt x="15232" y="-1952"/>
                    </a:lnTo>
                    <a:lnTo>
                      <a:pt x="18376" y="4543"/>
                    </a:lnTo>
                    <a:lnTo>
                      <a:pt x="11882" y="7688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282000">
                <a:off x="4355640" y="4686840"/>
                <a:ext cx="362520" cy="25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923440" y="1634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120680"/>
            <a:ext cx="81378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finire la frangia temporale in cui lavorer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cegliere lo schema adatto (4 o 12 posizio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nsiderare un primo momento quale momento in cui sorse 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nsiderare il momento che intendo studi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mpletare la scala con i successivi momenti del processo nei quali il nostro Oggetto potrà transi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549360"/>
            <a:ext cx="432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Passi dello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4149720"/>
            <a:ext cx="71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Ad esempio, utilizzando una scala in 4 posizioni, potrei chiamare i momenti NASCITA, SVILUPPO, DECLINO e F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229360"/>
            <a:ext cx="806616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Abbiamo ubicato il nostro Oggetto in un momento del processo, cogliendo la dinamica dei cambiamenti che si producono in 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6720" y="1407960"/>
            <a:ext cx="752292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Studio in statica</a:t>
            </a: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: La Strut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bicazione spaziale dell’Oggetto di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mbito Magg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mbito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mbito Mi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Studio in dinamica</a:t>
            </a: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: Il Movimento. Tripla Anal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bicazione temporale dell’Oggetto di Studio. Il Punto di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Studio del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Studio del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12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Studio della Com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5640" y="115920"/>
          <a:ext cx="1079640" cy="91440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796000" y="333360"/>
            <a:ext cx="2521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4. L’Anal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780000" y="16344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e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76500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o studio delle Relazioni si applica al </a:t>
            </a:r>
            <a:r>
              <a:rPr b="1" i="1" lang="es-MX" sz="2400" spc="-1" strike="noStrike">
                <a:solidFill>
                  <a:srgbClr val="362276"/>
                </a:solidFill>
                <a:latin typeface="Trebuchet MS"/>
              </a:rPr>
              <a:t>Momento del processo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 che si è scelto di studi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623960"/>
            <a:ext cx="71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Può essere il momento attuale, uno già passato o persino fut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4200" y="19890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 questo momento d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943600"/>
            <a:ext cx="53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Siamo in un momento di differenziazione nella nostra analisi delle relazi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836640"/>
            <a:ext cx="28728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2530440"/>
            <a:ext cx="806436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obbiamo domandarci con quali altri oggetti il nostro Oggetto è in rel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Tutti questi altri oggetti, pertinenti il suo ambito medio, devono condividere lo stesso livello concettuale del nostro Ogget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Questa lista disordinata di oggetti deve considerare tutti i fenomeni che avvengono contemporaneamente e che sono in relazione con il nostro Ogg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516720" y="1844640"/>
            <a:ext cx="223200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16344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e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549360"/>
            <a:ext cx="432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CHEMA DELLE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557360"/>
            <a:ext cx="49690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È una scala con polarità + /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obbiamo esplicitare quali sono i valori positivi e quelli neg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Ubichiamo sopra (5) gli elementi che meglio riflettono gli attributi positivi </a:t>
            </a:r>
            <a:r>
              <a:rPr b="0" i="1" lang="es-MX" sz="2000" spc="-1" strike="noStrike">
                <a:solidFill>
                  <a:srgbClr val="000000"/>
                </a:solidFill>
                <a:latin typeface="Trebuchet MS"/>
              </a:rPr>
              <a:t>(punto superiore)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Ubichiamo nel centro (3) il nostro Oggetto </a:t>
            </a:r>
            <a:r>
              <a:rPr b="0" i="1" lang="es-MX" sz="2000" spc="-1" strike="noStrike">
                <a:solidFill>
                  <a:srgbClr val="000000"/>
                </a:solidFill>
                <a:latin typeface="Trebuchet MS"/>
              </a:rPr>
              <a:t>(punto medio)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Ubichiamo sotto (1) gli elementi che meglio riflettono gli attributi negativi </a:t>
            </a:r>
            <a:r>
              <a:rPr b="0" i="1" lang="es-MX" sz="2000" spc="-1" strike="noStrike">
                <a:solidFill>
                  <a:srgbClr val="000000"/>
                </a:solidFill>
                <a:latin typeface="Trebuchet MS"/>
              </a:rPr>
              <a:t>(punto inferiore)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Ubichiamo nelle posizioni (4) e (2) gli elementi interm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1341360"/>
            <a:ext cx="338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5724360"/>
            <a:ext cx="338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34136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2920" y="134136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4750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2920" y="24750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31798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82920" y="31798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38862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2920" y="38862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45910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82920" y="45910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49480" y="1341360"/>
            <a:ext cx="223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49480" y="5724360"/>
            <a:ext cx="223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41320" y="1341360"/>
            <a:ext cx="30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41320" y="5724360"/>
            <a:ext cx="30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768320"/>
            <a:ext cx="0" cy="70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2920" y="1768320"/>
            <a:ext cx="0" cy="70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529740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2920" y="529740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1557360"/>
            <a:ext cx="33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5940360"/>
            <a:ext cx="33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155736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155736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269064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9640" y="269064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395520"/>
            <a:ext cx="0" cy="70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3395520"/>
            <a:ext cx="0" cy="70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41022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4102200"/>
            <a:ext cx="0" cy="70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48070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480708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5840" y="1557360"/>
            <a:ext cx="223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5840" y="5940360"/>
            <a:ext cx="223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78040" y="1557360"/>
            <a:ext cx="307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8040" y="5940360"/>
            <a:ext cx="307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198432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1984320"/>
            <a:ext cx="0" cy="70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551340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513400"/>
            <a:ext cx="0" cy="42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24360" y="565200"/>
            <a:ext cx="3073680" cy="6295320"/>
            <a:chOff x="5724360" y="565200"/>
            <a:chExt cx="3073680" cy="6295320"/>
          </a:xfrm>
        </p:grpSpPr>
        <p:sp>
          <p:nvSpPr>
            <p:cNvPr id="284" name=""/>
            <p:cNvSpPr/>
            <p:nvPr/>
          </p:nvSpPr>
          <p:spPr>
            <a:xfrm>
              <a:off x="7049880" y="565200"/>
              <a:ext cx="48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11800" y="59436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4040" y="2338200"/>
              <a:ext cx="2969640" cy="943200"/>
            </a:xfrm>
            <a:custGeom>
              <a:avLst/>
              <a:gdLst/>
              <a:ahLst/>
              <a:rect l="l" t="t" r="r" b="b"/>
              <a:pathLst>
                <a:path w="2265" h="594">
                  <a:moveTo>
                    <a:pt x="129" y="0"/>
                  </a:moveTo>
                  <a:cubicBezTo>
                    <a:pt x="13" y="388"/>
                    <a:pt x="84" y="306"/>
                    <a:pt x="0" y="594"/>
                  </a:cubicBezTo>
                  <a:lnTo>
                    <a:pt x="2265" y="594"/>
                  </a:lnTo>
                  <a:cubicBezTo>
                    <a:pt x="2241" y="354"/>
                    <a:pt x="2258" y="372"/>
                    <a:pt x="2130" y="0"/>
                  </a:cubicBezTo>
                  <a:lnTo>
                    <a:pt x="129" y="0"/>
                  </a:lnTo>
                  <a:close/>
                </a:path>
              </a:pathLst>
            </a:custGeom>
            <a:solidFill>
              <a:srgbClr val="ffc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360" y="3282840"/>
              <a:ext cx="3073680" cy="939960"/>
            </a:xfrm>
            <a:custGeom>
              <a:avLst/>
              <a:gdLst/>
              <a:ahLst/>
              <a:rect l="l" t="t" r="r" b="b"/>
              <a:pathLst>
                <a:path w="2344" h="592">
                  <a:moveTo>
                    <a:pt x="28" y="0"/>
                  </a:moveTo>
                  <a:cubicBezTo>
                    <a:pt x="0" y="356"/>
                    <a:pt x="24" y="304"/>
                    <a:pt x="20" y="592"/>
                  </a:cubicBezTo>
                  <a:lnTo>
                    <a:pt x="2320" y="592"/>
                  </a:lnTo>
                  <a:cubicBezTo>
                    <a:pt x="2328" y="336"/>
                    <a:pt x="2344" y="404"/>
                    <a:pt x="2296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1080" y="4216320"/>
              <a:ext cx="3005280" cy="933480"/>
            </a:xfrm>
            <a:custGeom>
              <a:avLst/>
              <a:gdLst/>
              <a:ahLst/>
              <a:rect l="l" t="t" r="r" b="b"/>
              <a:pathLst>
                <a:path w="2292" h="588">
                  <a:moveTo>
                    <a:pt x="0" y="0"/>
                  </a:moveTo>
                  <a:cubicBezTo>
                    <a:pt x="32" y="396"/>
                    <a:pt x="28" y="288"/>
                    <a:pt x="80" y="588"/>
                  </a:cubicBezTo>
                  <a:lnTo>
                    <a:pt x="2208" y="588"/>
                  </a:lnTo>
                  <a:cubicBezTo>
                    <a:pt x="2248" y="344"/>
                    <a:pt x="2252" y="388"/>
                    <a:pt x="22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86720" y="5149800"/>
              <a:ext cx="2758680" cy="934920"/>
            </a:xfrm>
            <a:custGeom>
              <a:avLst/>
              <a:gdLst/>
              <a:ahLst/>
              <a:rect l="l" t="t" r="r" b="b"/>
              <a:pathLst>
                <a:path w="2104" h="589">
                  <a:moveTo>
                    <a:pt x="0" y="0"/>
                  </a:moveTo>
                  <a:cubicBezTo>
                    <a:pt x="72" y="336"/>
                    <a:pt x="160" y="341"/>
                    <a:pt x="300" y="589"/>
                  </a:cubicBezTo>
                  <a:lnTo>
                    <a:pt x="1792" y="589"/>
                  </a:lnTo>
                  <a:cubicBezTo>
                    <a:pt x="1896" y="389"/>
                    <a:pt x="1980" y="384"/>
                    <a:pt x="210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18400" y="1423800"/>
              <a:ext cx="2634120" cy="920880"/>
            </a:xfrm>
            <a:custGeom>
              <a:avLst/>
              <a:gdLst/>
              <a:ahLst/>
              <a:rect l="l" t="t" r="r" b="b"/>
              <a:pathLst>
                <a:path w="2009" h="580">
                  <a:moveTo>
                    <a:pt x="284" y="0"/>
                  </a:moveTo>
                  <a:cubicBezTo>
                    <a:pt x="84" y="316"/>
                    <a:pt x="78" y="292"/>
                    <a:pt x="0" y="580"/>
                  </a:cubicBezTo>
                  <a:lnTo>
                    <a:pt x="2009" y="578"/>
                  </a:lnTo>
                  <a:cubicBezTo>
                    <a:pt x="1933" y="366"/>
                    <a:pt x="1948" y="328"/>
                    <a:pt x="1736" y="0"/>
                  </a:cubicBezTo>
                  <a:lnTo>
                    <a:pt x="28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23080" y="5151240"/>
              <a:ext cx="891720" cy="936720"/>
            </a:xfrm>
            <a:prstGeom prst="rect">
              <a:avLst/>
            </a:prstGeom>
            <a:solidFill>
              <a:srgbClr val="b2b2b2">
                <a:alpha val="2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23080" y="4216320"/>
              <a:ext cx="891720" cy="934920"/>
            </a:xfrm>
            <a:prstGeom prst="rect">
              <a:avLst/>
            </a:prstGeom>
            <a:solidFill>
              <a:srgbClr val="b2b2b2">
                <a:alpha val="2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23080" y="3278160"/>
              <a:ext cx="891720" cy="938160"/>
            </a:xfrm>
            <a:prstGeom prst="rect">
              <a:avLst/>
            </a:prstGeom>
            <a:solidFill>
              <a:srgbClr val="b2b2b2">
                <a:alpha val="2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3080" y="2343240"/>
              <a:ext cx="891720" cy="934920"/>
            </a:xfrm>
            <a:prstGeom prst="rect">
              <a:avLst/>
            </a:prstGeom>
            <a:solidFill>
              <a:srgbClr val="b2b2b2">
                <a:alpha val="2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3080" y="1406520"/>
              <a:ext cx="891720" cy="936720"/>
            </a:xfrm>
            <a:prstGeom prst="rect">
              <a:avLst/>
            </a:prstGeom>
            <a:solidFill>
              <a:srgbClr val="b2b2b2">
                <a:alpha val="2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12640" y="1406520"/>
              <a:ext cx="864000" cy="1440"/>
            </a:xfrm>
            <a:prstGeom prst="line">
              <a:avLst/>
            </a:prstGeom>
            <a:ln w="1260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23080" y="6087960"/>
              <a:ext cx="891720" cy="1440"/>
            </a:xfrm>
            <a:prstGeom prst="line">
              <a:avLst/>
            </a:prstGeom>
            <a:ln w="1260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0800" y="2343240"/>
              <a:ext cx="273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1400" y="3279600"/>
              <a:ext cx="2973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1280" y="4216320"/>
              <a:ext cx="2914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19480" y="5151240"/>
              <a:ext cx="2617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97200" y="1050480"/>
              <a:ext cx="2377800" cy="544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3" y="47"/>
                  </a:moveTo>
                  <a:arcTo wR="10800" hR="10800" stAng="-5080374" swAng="9887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3" y="47"/>
                  </a:moveTo>
                  <a:arcTo wR="10800" hR="10800" stAng="-5080374" swAng="9887182"/>
                </a:path>
              </a:pathLst>
            </a:custGeom>
            <a:noFill/>
            <a:ln w="114480">
              <a:solidFill>
                <a:srgbClr val="5f5f5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740200" y="1006560"/>
              <a:ext cx="2377800" cy="544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3" y="47"/>
                  </a:moveTo>
                  <a:arcTo wR="10800" hR="10800" stAng="-5080374" swAng="9887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3" y="47"/>
                  </a:moveTo>
                  <a:arcTo wR="10800" hR="10800" stAng="-5080374" swAng="9887182"/>
                </a:path>
              </a:pathLst>
            </a:custGeom>
            <a:noFill/>
            <a:ln w="114480">
              <a:solidFill>
                <a:srgbClr val="5f5f5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780000" y="16344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e Re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4149720"/>
            <a:ext cx="8066160" cy="2440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Potremo così visualizzare il nostro Oggetto in relazione dinamica con altri oggetti che partecipano dello stesso amb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Tutti sono in processo, e partecipano del medesimo momento generale, manifestandosi in concomitanza con 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1120680"/>
            <a:ext cx="81378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Questo lavoro richiede una grande capacità di discriminazione e di incastro con l’ubicazione degli elementi nella 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Non dobbiamo forzare il riempimento delle posi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i possono essere posizioni senza elementi, ma contenenti solo gli attributi cui si riferisc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24000" y="16344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a 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76360" y="76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Questa tappa consiste nel differenziare gli elementi che costituiscono 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700280"/>
            <a:ext cx="71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Nel momento del processo che stiamo studi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4200" y="231300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nsiderando l’interesse che abbiamo determinato all’inizio dello stud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836640"/>
            <a:ext cx="28728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3260880"/>
            <a:ext cx="8209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obbiamo domandarci quali sono gli elementi costitutivi del nostro Ogg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È una lista disordinata di elementi che può anche essere molto am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Attraverso riduzioni successive, prepareremo 3 coppie di elementi compositivi che ubicheremo in uno schema in  9 posi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911840" y="1634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a 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836640"/>
            <a:ext cx="309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n 9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549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CHEMA DELLA 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557360"/>
            <a:ext cx="37450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llochiamo a coppie i 6 elementi compositivi nelle posizioni 1-2, 4-5 e 7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Il criterio ordinatore può definirsi quale il livello concettuale crescente, o di sottigliezza cr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e posizioni 3, 6 e 9 serviranno per contrassegnare eventi esterni alla compos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ono i punti in cui l’Oggetto si connette con l’ambiente,  dando impulso a trasformazioni interne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73680" y="2138400"/>
            <a:ext cx="3236760" cy="3171960"/>
          </a:xfrm>
          <a:prstGeom prst="donut">
            <a:avLst>
              <a:gd name="adj" fmla="val 4435"/>
            </a:avLst>
          </a:prstGeom>
          <a:solidFill>
            <a:srgbClr val="0099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0400" y="227808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4520" y="303048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85320" y="4530600"/>
            <a:ext cx="296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96120" y="1585800"/>
            <a:ext cx="296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1800" y="302256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06920" y="4587840"/>
            <a:ext cx="296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43520" y="544032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05800" y="544032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97320" y="4784040"/>
            <a:ext cx="262080" cy="1386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8511840" y="4861080"/>
            <a:ext cx="234000" cy="15696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87920" y="1248120"/>
            <a:ext cx="4680" cy="2854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20209800">
            <a:off x="8459280" y="2130480"/>
            <a:ext cx="144720" cy="1031760"/>
          </a:xfrm>
          <a:custGeom>
            <a:avLst/>
            <a:gdLst>
              <a:gd name="textAreaLeft" fmla="*/ 0 w 144720"/>
              <a:gd name="textAreaRight" fmla="*/ 52200 w 144720"/>
              <a:gd name="textAreaTop" fmla="*/ 26640 h 1031760"/>
              <a:gd name="textAreaBottom" fmla="*/ 10051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656400">
            <a:off x="4457520" y="2088360"/>
            <a:ext cx="144360" cy="1032120"/>
          </a:xfrm>
          <a:custGeom>
            <a:avLst/>
            <a:gdLst>
              <a:gd name="textAreaLeft" fmla="*/ 0 w 144360"/>
              <a:gd name="textAreaRight" fmla="*/ 52200 w 144360"/>
              <a:gd name="textAreaTop" fmla="*/ 26640 h 1032120"/>
              <a:gd name="textAreaBottom" fmla="*/ 1005480 h 103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6369120" y="5442120"/>
            <a:ext cx="149040" cy="1009440"/>
          </a:xfrm>
          <a:custGeom>
            <a:avLst/>
            <a:gdLst>
              <a:gd name="textAreaLeft" fmla="*/ 0 w 149040"/>
              <a:gd name="textAreaRight" fmla="*/ 53640 w 149040"/>
              <a:gd name="textAreaTop" fmla="*/ 26280 h 1009440"/>
              <a:gd name="textAreaBottom" fmla="*/ 98316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8840" y="2238480"/>
            <a:ext cx="296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8235600">
            <a:off x="5076000" y="4508640"/>
            <a:ext cx="768600" cy="1576080"/>
          </a:xfrm>
          <a:custGeom>
            <a:avLst/>
            <a:gdLst>
              <a:gd name="textAreaLeft" fmla="*/ 0 w 768600"/>
              <a:gd name="textAreaRight" fmla="*/ 768960 w 768600"/>
              <a:gd name="textAreaTop" fmla="*/ 0 h 1576080"/>
              <a:gd name="textAreaBottom" fmla="*/ 1576440 h 1576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123302"/>
                <a:lnTo>
                  <a:pt x="19605" y="4546"/>
                </a:lnTo>
                <a:arcTo wR="10800" hR="10800" stAng="-2123302" swAng="212330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769200">
            <a:off x="8101080" y="3141720"/>
            <a:ext cx="768240" cy="1574640"/>
          </a:xfrm>
          <a:custGeom>
            <a:avLst/>
            <a:gdLst>
              <a:gd name="textAreaLeft" fmla="*/ 0 w 768240"/>
              <a:gd name="textAreaRight" fmla="*/ 768600 w 76824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123302"/>
                <a:lnTo>
                  <a:pt x="19605" y="4546"/>
                </a:lnTo>
                <a:arcTo wR="10800" hR="10800" stAng="-2123302" swAng="212330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4623200">
            <a:off x="5380920" y="1250280"/>
            <a:ext cx="785880" cy="1541520"/>
          </a:xfrm>
          <a:custGeom>
            <a:avLst/>
            <a:gdLst>
              <a:gd name="textAreaLeft" fmla="*/ 0 w 785880"/>
              <a:gd name="textAreaRight" fmla="*/ 786240 w 785880"/>
              <a:gd name="textAreaTop" fmla="*/ 0 h 1541520"/>
              <a:gd name="textAreaBottom" fmla="*/ 1541880 h 1541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123302"/>
                <a:lnTo>
                  <a:pt x="19605" y="4546"/>
                </a:lnTo>
                <a:arcTo wR="10800" hR="10800" stAng="-2123302" swAng="212330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394000"/>
            <a:ext cx="403200" cy="392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41920" y="3238560"/>
            <a:ext cx="403200" cy="3920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21400" y="4927680"/>
            <a:ext cx="403200" cy="392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32440" y="4927680"/>
            <a:ext cx="384480" cy="3934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23160" y="3238560"/>
            <a:ext cx="385920" cy="3934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29600" y="2394000"/>
            <a:ext cx="384120" cy="3934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7707800">
            <a:off x="7574400" y="4385520"/>
            <a:ext cx="482400" cy="297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0345800">
            <a:off x="6281640" y="2141280"/>
            <a:ext cx="471600" cy="303120"/>
          </a:xfrm>
          <a:prstGeom prst="triangle">
            <a:avLst>
              <a:gd name="adj" fmla="val 460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3226800">
            <a:off x="4813200" y="4282200"/>
            <a:ext cx="482760" cy="297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780000" y="16344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della 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6920" y="692280"/>
            <a:ext cx="8137800" cy="27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Come nei passi precedenti, propongo e correggo fino a che lo schema guadagni incastro e che tutti gli elementi siano collocati in un luogo preci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64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Verifichiamo diversi tipi di relazion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Lineari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: da un punto al successivo (1-2, 4-5, 7-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Opposte o complementari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: quelle tra la metà destra (1, 2 e 4) con la metà sinistra dello schema (5, 7 e 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6920" y="3789360"/>
            <a:ext cx="8137800" cy="3024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rebuchet MS"/>
              </a:rPr>
              <a:t>In una nuova sintesi che integra la visione compositiva, delle relazioni e del processo all’interno di questo </a:t>
            </a:r>
            <a:r>
              <a:rPr b="0" lang="es-MX" sz="2200" spc="-1" strike="noStrike">
                <a:solidFill>
                  <a:srgbClr val="ffffff"/>
                </a:solidFill>
                <a:latin typeface="Trebuchet MS"/>
              </a:rPr>
              <a:t>MICROSISTEMA,</a:t>
            </a:r>
            <a:r>
              <a:rPr b="0" lang="es-MX" sz="2200" spc="-1" strike="noStrike">
                <a:solidFill>
                  <a:srgbClr val="ffffff"/>
                </a:solidFill>
                <a:latin typeface="Trebuchet MS"/>
              </a:rPr>
              <a:t> vediamo che gli elementi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mpositivi acquisiscono dinamica, sono colpiti dall’azione di fenomeni esterni, e, nel loro movimento di differenziazioni, complementazioni e sintesi, danno vita al nostro Oggetto di 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80000" y="379440"/>
            <a:ext cx="5203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ine del Secondo Gi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1492200"/>
            <a:ext cx="8137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n questo abbiamo terminato l’ultima analisi meto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urante il lavoro abbiamo tentato di discriminare il più possibile i diversi elementi che, dal Punto di Vista Processuale, Relazionale e Compositivo, costituiscono l’Oggetto di Studio che ci siamo proposti di conosc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icuramente abbiamo ampliato il limite della nostra compren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omani saremo in condizione di iniziare il cammino di ritorno, per rispondere al problema che ci siamo p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49080" y="16020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62276"/>
                </a:solidFill>
                <a:latin typeface="Trebuchet MS"/>
              </a:rPr>
              <a:t>L’Anal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125360"/>
            <a:ext cx="7704000" cy="1008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NALISI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rebuchet MS"/>
              </a:rPr>
              <a:t>gr.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Distinzione, separazione delle parti di un tu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fino ad arrivare a conoscerne i principi e gli ele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1120" y="2149560"/>
            <a:ext cx="312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Analisi divisa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due tappe di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4162320"/>
            <a:ext cx="2089080" cy="459720"/>
          </a:xfrm>
          <a:prstGeom prst="rect">
            <a:avLst/>
          </a:prstGeom>
          <a:solidFill>
            <a:srgbClr val="362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rebuchet MS"/>
              </a:rPr>
              <a:t>in ST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3280" y="4162320"/>
            <a:ext cx="2144880" cy="825480"/>
          </a:xfrm>
          <a:prstGeom prst="rect">
            <a:avLst/>
          </a:prstGeom>
          <a:solidFill>
            <a:srgbClr val="362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rebuchet MS"/>
              </a:rPr>
              <a:t>in DIN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903400">
            <a:off x="3026880" y="2568240"/>
            <a:ext cx="1368720" cy="122544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705741"/>
                <a:lnTo>
                  <a:pt x="15910" y="1285"/>
                </a:lnTo>
                <a:arcTo wR="10800" hR="10800" stAng="-3705741" swAng="370574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362276"/>
              </a:gs>
              <a:gs pos="100000">
                <a:srgbClr val="fefefe"/>
              </a:gs>
            </a:gsLst>
            <a:lin ang="5196000"/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62744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Inquadrare con precisione la </a:t>
            </a: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Struttura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 dove collochiamo l’</a:t>
            </a: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Oggetto di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462744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Sviluppo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Tripla Analisi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spetto essenziale del </a:t>
            </a: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Metodo Strutturale Dina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18696600">
            <a:off x="5361120" y="2568240"/>
            <a:ext cx="1368720" cy="1225800"/>
          </a:xfrm>
          <a:custGeom>
            <a:avLst/>
            <a:gdLst>
              <a:gd name="textAreaLeft" fmla="*/ 360 w 1368720"/>
              <a:gd name="textAreaRight" fmla="*/ 1369440 w 1368720"/>
              <a:gd name="textAreaTop" fmla="*/ 0 h 1225800"/>
              <a:gd name="textAreaBottom" fmla="*/ 1226160 h 122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705741"/>
                <a:lnTo>
                  <a:pt x="15910" y="1285"/>
                </a:lnTo>
                <a:arcTo wR="10800" hR="10800" stAng="-3705741" swAng="370574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362276"/>
              </a:gs>
              <a:gs pos="100000">
                <a:srgbClr val="fefefe"/>
              </a:gs>
            </a:gsLst>
            <a:lin ang="5196000"/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0960" y="173160"/>
            <a:ext cx="54417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tudio in Statica:</a:t>
            </a:r>
            <a:r>
              <a:rPr b="1" lang="es-MX" sz="2800" spc="-1" strike="noStrike">
                <a:solidFill>
                  <a:srgbClr val="362276"/>
                </a:solidFill>
                <a:latin typeface="Trebuchet MS"/>
              </a:rPr>
              <a:t> LA STRU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0200" y="1197000"/>
            <a:ext cx="720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Questo passo consiste nell’ubicazione “spaziale” del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227160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Si riferisce ad una spazialità concettuale che si produce nella rappresentazione del ricercatore, e non ad una spazialità este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3573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L’Oggetto di Studio non si trova isolato, 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bens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4214880"/>
            <a:ext cx="6049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È i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relazione con altri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oggetti, all’interno di u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ambito condizionante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È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composto da elementi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che si includono al suo in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-892080"/>
            <a:ext cx="10225080" cy="8278560"/>
          </a:xfrm>
          <a:prstGeom prst="donut">
            <a:avLst>
              <a:gd name="adj" fmla="val 6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6313200">
            <a:off x="560520" y="2089800"/>
            <a:ext cx="1370160" cy="117468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482" y="0"/>
                </a:lnTo>
                <a:lnTo>
                  <a:pt x="21600" y="10800"/>
                </a:lnTo>
                <a:lnTo>
                  <a:pt x="10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4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08000" y="684360"/>
            <a:ext cx="1728720" cy="1611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684360"/>
            <a:ext cx="1727280" cy="161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58920" y="1165320"/>
            <a:ext cx="392040" cy="3823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27280" y="1763640"/>
            <a:ext cx="39348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1163520"/>
            <a:ext cx="39348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1640" y="73332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161928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5640" y="1308240"/>
            <a:ext cx="39240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11280" y="90000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70240" y="895320"/>
            <a:ext cx="2952720" cy="1619280"/>
          </a:xfrm>
          <a:custGeom>
            <a:avLst/>
            <a:gdLst/>
            <a:ahLst/>
            <a:rect l="l" t="t" r="r" b="b"/>
            <a:pathLst>
              <a:path w="1860" h="1020">
                <a:moveTo>
                  <a:pt x="0" y="678"/>
                </a:moveTo>
                <a:lnTo>
                  <a:pt x="1560" y="1020"/>
                </a:lnTo>
                <a:lnTo>
                  <a:pt x="1860" y="0"/>
                </a:lnTo>
                <a:lnTo>
                  <a:pt x="6" y="444"/>
                </a:lnTo>
                <a:lnTo>
                  <a:pt x="0" y="67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>
                  <a:alpha val="50196"/>
                </a:srgbClr>
              </a:gs>
            </a:gsLst>
            <a:lin ang="135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16160" y="1590840"/>
            <a:ext cx="393840" cy="382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2560" y="1042920"/>
            <a:ext cx="1728720" cy="1611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2560" y="1042920"/>
            <a:ext cx="1727280" cy="161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70560" y="118728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13480" y="161928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8560" y="226836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05480" y="1403280"/>
            <a:ext cx="39204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0200" y="111600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5480" y="1835280"/>
            <a:ext cx="392040" cy="3823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161928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37200" y="2057400"/>
            <a:ext cx="1761840" cy="2238480"/>
          </a:xfrm>
          <a:custGeom>
            <a:avLst/>
            <a:gdLst/>
            <a:ahLst/>
            <a:rect l="l" t="t" r="r" b="b"/>
            <a:pathLst>
              <a:path w="1110" h="1410">
                <a:moveTo>
                  <a:pt x="690" y="0"/>
                </a:moveTo>
                <a:lnTo>
                  <a:pt x="0" y="1224"/>
                </a:lnTo>
                <a:lnTo>
                  <a:pt x="1110" y="1410"/>
                </a:lnTo>
                <a:lnTo>
                  <a:pt x="930" y="24"/>
                </a:lnTo>
                <a:lnTo>
                  <a:pt x="69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>
                  <a:alpha val="50196"/>
                </a:srgbClr>
              </a:gs>
            </a:gsLst>
            <a:lin ang="135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26200" y="1908000"/>
            <a:ext cx="393480" cy="384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3640" y="3637080"/>
            <a:ext cx="1728720" cy="1611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3640" y="3637080"/>
            <a:ext cx="1727280" cy="161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46800" y="4038480"/>
            <a:ext cx="2581200" cy="1657440"/>
          </a:xfrm>
          <a:custGeom>
            <a:avLst/>
            <a:gdLst/>
            <a:ahLst/>
            <a:rect l="l" t="t" r="r" b="b"/>
            <a:pathLst>
              <a:path w="1626" h="1044">
                <a:moveTo>
                  <a:pt x="0" y="522"/>
                </a:moveTo>
                <a:lnTo>
                  <a:pt x="1362" y="1044"/>
                </a:lnTo>
                <a:lnTo>
                  <a:pt x="1626" y="0"/>
                </a:lnTo>
                <a:lnTo>
                  <a:pt x="0" y="294"/>
                </a:lnTo>
                <a:lnTo>
                  <a:pt x="0" y="52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>
                  <a:alpha val="50196"/>
                </a:srgbClr>
              </a:gs>
            </a:gsLst>
            <a:lin ang="135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99280" y="4186080"/>
            <a:ext cx="1728720" cy="1611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4186080"/>
            <a:ext cx="1727280" cy="161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45600" y="4538520"/>
            <a:ext cx="39348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23280" y="503244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34200" y="529416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70920" y="4816440"/>
            <a:ext cx="39204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8200" y="4456080"/>
            <a:ext cx="39348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39120" y="529416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18560" y="4745160"/>
            <a:ext cx="39348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91640" y="424008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4360" y="1981080"/>
            <a:ext cx="1871640" cy="720720"/>
          </a:xfrm>
          <a:prstGeom prst="wedgeRoundRectCallout">
            <a:avLst>
              <a:gd name="adj1" fmla="val -79518"/>
              <a:gd name="adj2" fmla="val -35462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GGETTO DI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18497400">
            <a:off x="4186080" y="1026360"/>
            <a:ext cx="1685880" cy="102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Arial Unicode MS"/>
              </a:rPr>
              <a:t>AMBITO MEDIO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Arial Unicode MS"/>
              <a:ea typeface="Arial Unicode MS"/>
            </a:endParaRPr>
          </a:p>
        </p:txBody>
      </p:sp>
      <p:sp>
        <p:nvSpPr>
          <p:cNvPr id="100" name=""/>
          <p:cNvSpPr/>
          <p:nvPr/>
        </p:nvSpPr>
        <p:spPr>
          <a:xfrm>
            <a:off x="7128000" y="6002280"/>
            <a:ext cx="2016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tudio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ondo o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064000" y="5005080"/>
            <a:ext cx="216000" cy="1800360"/>
          </a:xfrm>
          <a:custGeom>
            <a:avLst/>
            <a:gdLst>
              <a:gd name="textAreaLeft" fmla="*/ 0 w 216000"/>
              <a:gd name="textAreaRight" fmla="*/ 7812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5280" y="5508720"/>
            <a:ext cx="160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ementi composi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18497400">
            <a:off x="3825720" y="3604680"/>
            <a:ext cx="1685880" cy="102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80"/>
                </a:solidFill>
                <a:latin typeface="Arial Unicode MS"/>
              </a:rPr>
              <a:t>AMBITO MINORE</a:t>
            </a:r>
            <a:endParaRPr b="0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8080"/>
              </a:solidFill>
              <a:latin typeface="Arial Unicode MS"/>
              <a:ea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8720" y="476280"/>
            <a:ext cx="208764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AMBITO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MAGGIORE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5294160" y="400680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72200" y="4500720"/>
            <a:ext cx="392040" cy="38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3120" y="476244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9480" y="4284720"/>
            <a:ext cx="392040" cy="384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06760" y="3924360"/>
            <a:ext cx="3938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87680" y="4762440"/>
            <a:ext cx="39240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67120" y="4213080"/>
            <a:ext cx="393840" cy="384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40200" y="3708360"/>
            <a:ext cx="392040" cy="3826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2" idx="0"/>
            <a:endCxn id="107" idx="4"/>
          </p:cNvCxnSpPr>
          <p:nvPr/>
        </p:nvCxnSpPr>
        <p:spPr>
          <a:xfrm flipV="1">
            <a:off x="4978440" y="5144760"/>
            <a:ext cx="202320" cy="36432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2" idx="0"/>
            <a:endCxn id="110" idx="6"/>
          </p:cNvCxnSpPr>
          <p:nvPr/>
        </p:nvCxnSpPr>
        <p:spPr>
          <a:xfrm flipH="1" flipV="1">
            <a:off x="4779360" y="4953960"/>
            <a:ext cx="199080" cy="55476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0"/>
            <a:endCxn id="111" idx="4"/>
          </p:cNvCxnSpPr>
          <p:nvPr/>
        </p:nvCxnSpPr>
        <p:spPr>
          <a:xfrm flipH="1" flipV="1">
            <a:off x="4963680" y="4596840"/>
            <a:ext cx="15120" cy="91188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0"/>
            <a:endCxn id="105" idx="3"/>
          </p:cNvCxnSpPr>
          <p:nvPr/>
        </p:nvCxnSpPr>
        <p:spPr>
          <a:xfrm flipV="1">
            <a:off x="4978440" y="4333320"/>
            <a:ext cx="373680" cy="117540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2" idx="0"/>
            <a:endCxn id="108" idx="5"/>
          </p:cNvCxnSpPr>
          <p:nvPr/>
        </p:nvCxnSpPr>
        <p:spPr>
          <a:xfrm flipH="1" flipV="1">
            <a:off x="4454280" y="4612680"/>
            <a:ext cx="524160" cy="8960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982400" y="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125360"/>
            <a:ext cx="78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AMBITO MAGGIORE: 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	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strutturalità generale che contiene il 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	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	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	</a:t>
            </a: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nostro oggetto di 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7702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me conseguenza della Legge di Struttura, il nostro oggetto è integrato in questo insi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3789360"/>
            <a:ext cx="705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e variazioni prodotte in questo ambito interesseranno il nostro oggetto in quanto parte del tu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arà cicli e ritmi a ciò che vi è conte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08584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Non è configurato da una semplice sommatoria di ogget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3120" y="15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0560" y="1125360"/>
            <a:ext cx="78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AMBITO MEDIO: costituito dagli oggetti che condividono lo stesso spazio concettuale del nostro Oggetto di 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1701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e relazioni tra gli oggetti dell’ambito medio, che li collegano gli uni agli al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403560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Non sono relazioni cau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no relazioni di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rebuchet MS"/>
              </a:rPr>
              <a:t>concomi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94796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rebuchet MS"/>
              </a:rPr>
              <a:t>Gli oggetti dell’ambito medio partecipano del medesimo Ambito Maggi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3120" y="15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125360"/>
            <a:ext cx="78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62276"/>
                </a:solidFill>
                <a:latin typeface="Trebuchet MS"/>
              </a:rPr>
              <a:t>AMBITO MINORE: è quello che contiene gli elementi che compongono l’oggetto che stiamo studia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0988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Gli elementi compositivi sono dinam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254480"/>
            <a:ext cx="583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no in tras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no in relazione con il lor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3120" y="15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981000"/>
            <a:ext cx="8101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Questo esercizio è simile a quello di un ricercatore che, utilizzando un microscopio, impieghi ottiche di differente spessore per studiare il medesimo tessu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&gt; spessore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: si addentra nei dettag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&lt; spessore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: guadagna nella visione d’insi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956040"/>
            <a:ext cx="8101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’è una differenza di “piani”, ma ci manteniamo sempre nella stessa strut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ossiamo muoverci in direzione ascendente o discendente mantenendo la coerenza, andando dal generale al particolare e vice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ermette studi di “secondo ordine” quando un elemento compositivo diventa un nuovo oggetto di 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3120" y="15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62276"/>
                </a:solidFill>
                <a:latin typeface="Trebuchet MS"/>
              </a:rPr>
              <a:t>Studio in Statica: L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7:39:36Z</dcterms:created>
  <dc:creator>pc</dc:creator>
  <dc:description/>
  <dc:language>en-US</dc:language>
  <cp:lastModifiedBy>Roberta Consilvio</cp:lastModifiedBy>
  <dcterms:modified xsi:type="dcterms:W3CDTF">2006-12-23T21:22:52Z</dcterms:modified>
  <cp:revision>79</cp:revision>
  <dc:subject/>
  <dc:title>Diapositiva 1</dc:title>
</cp:coreProperties>
</file>