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C9DD-DC35-4CB9-A16D-740FC9C73D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634-492B-4F8B-81E6-5E13E74D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6D9-6999-4170-84FC-90BE0A7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B0F-0223-495A-929F-EB416D1C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081-B6AE-4DD5-9CE5-EC2FC312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7C4-F8CC-4459-900A-6FCAA394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B95-00AE-494F-9046-B96C935D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BB8-5D88-42B4-A7BD-5083703B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7B6-62E3-47AC-AC27-A3798F12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2DA-A083-4650-AA87-7EF3592C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FA2-B81A-4127-95FD-140067E2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6EA-E073-4573-A360-0BE305F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3E0-F71F-4A76-8F1A-227A890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04A9-6480-4C8E-A8E9-67A1B1CC3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mehumanistas.org/" TargetMode="External"/><Relationship Id="rId2" Type="http://schemas.openxmlformats.org/officeDocument/2006/relationships/hyperlink" Target="http://www.cmehumanista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Métho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développées par les courant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pensée influen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Times New Roman"/>
              </a:rPr>
              <a:t>la façon de 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276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Times New Roman"/>
              </a:rPr>
              <a:t>d'interpré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4038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Times New Roman"/>
              </a:rPr>
              <a:t>de pen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Times New Roman"/>
              </a:rPr>
              <a:t>d'organ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5638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socié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logo_cehba_horiz" descr=""/>
          <p:cNvPicPr/>
          <p:nvPr/>
        </p:nvPicPr>
        <p:blipFill>
          <a:blip r:embed="rId1"/>
          <a:srcRect l="0" t="0" r="66594" b="0"/>
          <a:stretch/>
        </p:blipFill>
        <p:spPr>
          <a:xfrm>
            <a:off x="160020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éfé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990720"/>
            <a:ext cx="746748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Sou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 :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Atelier sur la  méthode CEH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Les Editions Réfé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Images: Wikip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Intervena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Sylvie Fornasi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sylvie.fornasier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Jean-Michel Baroch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jeanmichel_b@yahoo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Michel Darrac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michel.darracq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Philippe Mo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ph.moal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Productions matériels graphiqu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Isabelle Chap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ichapre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ea typeface="msgothic"/>
                <a:hlinkClick r:id="rId1"/>
              </a:rPr>
              <a:t>http://www.cmehumanistas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ea typeface="msgothic"/>
                <a:hlinkClick r:id="rId2"/>
              </a:rPr>
              <a:t>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gothic"/>
              </a:rPr>
              <a:t>25/05/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ORMULER UNE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590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vec pré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42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ns ambiguï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L EST LE PROBLEM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est cela le point de dé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DEFINIR UN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OBJET D’ETU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7242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’est ce qui nous intéresse dans cette étud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NALYSE DU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CEINTE MAJ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CEINTE MIN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CEINTE MOY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NALYSE DU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I D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I D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I DE CONCOM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NALYSE DU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I DE DEPASSEMENT DE L’ANCIEN PAR LE NOU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FFERE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NALYSE DU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i permette d’avoir des critères pour a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ABORER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E REPONS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 rédact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EALISER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 RAPPORT FINAL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22:26:19Z</dcterms:created>
  <dc:creator>Philippe Moal</dc:creator>
  <dc:description/>
  <dc:language>en-US</dc:language>
  <cp:lastModifiedBy>Philippe Moal</cp:lastModifiedBy>
  <dcterms:modified xsi:type="dcterms:W3CDTF">2007-05-26T13:30:22Z</dcterms:modified>
  <cp:revision>4</cp:revision>
  <dc:subject/>
  <dc:title>Présentation PowerPoint</dc:title>
</cp:coreProperties>
</file>