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74A-479B-428E-A827-CC4522E9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F62-168E-48A7-936A-024BFAC6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8E7-72E7-4F78-9ED0-FE127728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2B9-2212-4D72-855C-D4AB280F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8EF-0AE3-4E1C-9C70-0B20C914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6F6-A81A-4301-ACC8-44257FCD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2C2-901C-4000-98CE-E2C7D17A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B28-A283-45B8-A632-EB384C2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216-102E-4065-BC88-4F598431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204-3485-48BA-AC98-FCF5ED4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734-3FBF-4C84-BA39-F8D9D84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A54-DE03-499A-B28E-BE5052A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B888-6A9B-4CF9-8E30-49D8121D0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Aristoteles_Louvr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ménide d'Élée (en grec Παρμενίδης Parmenídês) (-520 –4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219320"/>
            <a:ext cx="5715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présocr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’Etre est intemporel et continu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ien ne peut devenir une autre ch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que ce qu’elle es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70480" y="3313080"/>
            <a:ext cx="180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159084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crate (Σωκράτης) (-469 –39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295280"/>
            <a:ext cx="5333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- Ath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MAIEUTIQUE... ou l’art de faire accouche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es espr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es questions ??? Des questions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ncore des ques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' IRONIE... ou l'art de pousser l'autre dans 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ranchements (intellectuels) comm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511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3920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ton (Πλάτων) (-427 –3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447920"/>
            <a:ext cx="556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DIALECTIQUE... ou la critique constructive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es propositions, des arguments pour approche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gressivement de l’Idée p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2910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istote (Ἀριστοτέλης) (-384 –3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990720"/>
            <a:ext cx="586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de l’Antiqu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LOGIQUE* = la dialectique + le mouvement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e la r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ois du raisonnement correc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éduction, démonstration, résul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Logique 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cience dont l’objet est de déteminer les règles de la pensée grâce auxquelles on peut atteindr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vé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066680"/>
            <a:ext cx="205596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057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gustin d’Hippone - St Augstin (+354 +4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1295280"/>
            <a:ext cx="464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 chrétien - Cart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ieu détient la Connaissance ul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on y parvient, non par la log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ais par l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cité de Dieu, seule,  est parfai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'est là que se trouvent la connaissance et la vé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338200" cy="304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23:20Z</dcterms:modified>
  <cp:revision>10</cp:revision>
  <dc:subject/>
  <dc:title>Présentation PowerPoint</dc:title>
</cp:coreProperties>
</file>