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09E-B4D5-417D-807C-B6A8992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BAC-6BB6-403F-A4F2-C5E5C4C9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19F-CC19-46F0-A892-C0FE638E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325-8699-447F-8002-60FC81AD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7E9-FE05-4104-AA20-672EAB5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263-EE4E-4BD4-A577-9D3679B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E4F-4FAE-4CF6-9799-1A8F0E9C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87A-33C0-4CE3-93C0-241FB189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AE1-6EDB-47E9-95C6-45E02F5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821-623E-409F-AC27-6F5D5CA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6E4-ED1B-4E05-831E-C288D26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586-FD7F-49DE-980E-B72D79C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B89FA-0B71-4D42-B666-C7249D5E74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ehumanistas.org/" TargetMode="External"/><Relationship Id="rId2" Type="http://schemas.openxmlformats.org/officeDocument/2006/relationships/hyperlink" Target="http://www.cmehumanista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rio Luis Rodriguez Cobos, dit Silo (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1279440"/>
            <a:ext cx="5333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rgen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ETHODE STRUCTURELL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ut est en structure et en process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2384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éfé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990720"/>
            <a:ext cx="746748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: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elier sur la  méthode CEH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 Editions Réfé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ages: Wikip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ven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lvie Fornasi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lvie.fornasier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an-Michel Baroch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anmichel_b@yahoo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hel Darrac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hel.darracq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hilippe Mo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h.moal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s matériels graph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abelle Chap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apre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mehumanistas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/05/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34:30Z</dcterms:modified>
  <cp:revision>10</cp:revision>
  <dc:subject/>
  <dc:title>Présentation PowerPoint</dc:title>
</cp:coreProperties>
</file>