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-360" y="-8340840"/>
            <a:ext cx="360" cy="180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DE46-780F-4A8F-8661-54EB86851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3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63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9154-0126-4FC7-BF69-84472ADD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3800" y="419220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6663-2FCA-4151-B5B1-23BDF6D26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072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5320" y="198072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9220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5320" y="419220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DE34-7C82-4227-B43F-64B148A8D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6304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4584-04C7-4476-84CA-1E59A2FA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30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B53A-471C-4A2A-97B3-C301AB6A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004C-3B7F-4129-A3A0-863EEB08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2F85-85CE-4451-9650-09BB17BD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63040" cy="66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CDC3-9950-495C-A12A-4121C931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D00B-B2B1-42A5-8723-CDD120BB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3800" y="419220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1DAB-57CB-4845-87A3-BDF33B03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63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0BE1-ACF9-4AE9-A2F4-09FD0694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630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6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320" indent="-276120">
              <a:lnSpc>
                <a:spcPct val="6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6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6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6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6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6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89540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8612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89576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3E1BEE-505E-4D39-9A68-D1D9C4D3B1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6628" b="0"/>
          <a:stretch/>
        </p:blipFill>
        <p:spPr>
          <a:xfrm>
            <a:off x="0" y="0"/>
            <a:ext cx="609480" cy="9907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 flipH="1">
            <a:off x="601200" y="380880"/>
            <a:ext cx="8550360" cy="1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914400" y="76320"/>
            <a:ext cx="7770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 algn="ctr">
              <a:lnSpc>
                <a:spcPct val="80000"/>
              </a:lnSpc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Black"/>
              </a:rPr>
              <a:t>Méthode structurelle dynam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fr.wikipedia.org/wiki/Image:Saint_thomas_d_aquin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63240"/>
            <a:ext cx="769608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aint Thomas d’Aquin (1225 127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1219320"/>
            <a:ext cx="60199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hilosophe chrétien- Na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La SCOLASTIQUE... ou méthode fondée sur l’étude 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et le commentaire des textes religieux et profanes 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qui vise à reconciler la logique d’Aristote avec 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la théologie chrétien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Veut démontrer logiquement l’existence de Die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fluencé par Aristote, Augustin d'Hipp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-39600" y="1382760"/>
            <a:ext cx="9144000" cy="1440"/>
          </a:xfrm>
          <a:prstGeom prst="rect">
            <a:avLst/>
          </a:prstGeom>
          <a:solidFill>
            <a:srgbClr val="ff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295280"/>
            <a:ext cx="2286000" cy="40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363240"/>
            <a:ext cx="769608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ené Descartes (1596- 165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60720" y="1143000"/>
            <a:ext cx="4637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hilosophe français - Époque Mode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Le DOUTE ordonné, jusqu'à l'apparition d'une intuition évid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je pense donc je suis !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2248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63240"/>
            <a:ext cx="769608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ené Descartes (1596- 165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5880" y="1143000"/>
            <a:ext cx="281952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tabLst>
                <a:tab algn="l" pos="0"/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es 4  lois du discou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tabLst>
                <a:tab algn="l" pos="0"/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 la Méthod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tabLst>
                <a:tab algn="l" pos="0"/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’évid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’analy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a synthèse et le rais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e dénomb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5175360" cy="572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439200"/>
            <a:ext cx="769608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mmanuel Kant (1724 -180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1143000"/>
            <a:ext cx="5562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hilosophe allemand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On ne peut pas parvenir à la vérité absolu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mais on doit considérer qu'il s'agit de la vérité abso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uvrage majeur :  « Critique de la raison pure 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22510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363240"/>
            <a:ext cx="769608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Georg W. F. Hegel (1770- 18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1050840"/>
            <a:ext cx="4343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hilosophe allemand  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La vérité absolue est constituée 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d’une chose et de son contrai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THESE… ANTITHESE… SYNTHE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210168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363240"/>
            <a:ext cx="769608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dmund Hüsserl (1859 193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990720"/>
            <a:ext cx="54864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hilosophe alle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La REDUCTION PHENOMENOLOGIQUE… ou la description des phénomène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Phénomène = Objet + Regard de l'observa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La véritable connaissance 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est celle de l’Esse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232092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363240"/>
            <a:ext cx="769608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osé Ortega y Gasset (1883 -195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00400" y="1050840"/>
            <a:ext cx="5257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hilosophe espagnol   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Parvenir à la connaissance par l’étude d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25440" indent="-3902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L’obj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25440" indent="-3902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Le Moi qui regarde l’obj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25440" indent="-3902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Les circonstances dans lesquelles 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se trouvent l’objet et le moi (l’histoire, la sociét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2184480" cy="2819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hilippe Moal</cp:lastModifiedBy>
  <dcterms:modified xsi:type="dcterms:W3CDTF">2007-07-30T00:14:49Z</dcterms:modified>
  <cp:revision>10</cp:revision>
  <dc:subject/>
  <dc:title>Présentation PowerPoint</dc:title>
</cp:coreProperties>
</file>