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6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-360" y="-8340840"/>
            <a:ext cx="360" cy="1806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6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-8340840"/>
            <a:ext cx="1440" cy="1807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5BE45-0907-4335-B193-13968229D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304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630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630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A82BB-D18A-4CB7-A4F7-07FFD5719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304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882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3800" y="1980720"/>
            <a:ext cx="37882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882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3800" y="4192200"/>
            <a:ext cx="37882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2EC42-6230-44B8-968B-EF2213F93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304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4994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0560" y="1980720"/>
            <a:ext cx="24994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35320" y="1980720"/>
            <a:ext cx="24994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4994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0560" y="4192200"/>
            <a:ext cx="24994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35320" y="4192200"/>
            <a:ext cx="24994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AB0C8-70C9-44BB-8E2D-F8CA4D511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304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6304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62FD2-36FD-4AD5-B981-E63CB69F3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304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6304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74708-E532-4566-8DBE-25E78D968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304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882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3800" y="1980720"/>
            <a:ext cx="37882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6019C-08F6-4689-A81B-24627B9E2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304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BDE6D-EF45-4F09-A084-071CB7FC7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463680"/>
            <a:ext cx="7763040" cy="660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6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B0BD3-82D3-48B1-93E2-C8DDDCAE3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304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882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3800" y="1980720"/>
            <a:ext cx="37882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882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8F674-82AB-4F96-B913-25C35FA8A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304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882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3800" y="1980720"/>
            <a:ext cx="37882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3800" y="4192200"/>
            <a:ext cx="37882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EB0AB-C3D3-43E4-A72C-AD966D456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304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882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3800" y="1980720"/>
            <a:ext cx="37882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630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3E0A4-B826-4854-9953-E73381CBC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3333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304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6304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3360" indent="-333360">
              <a:lnSpc>
                <a:spcPct val="6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3320" indent="-276120">
              <a:lnSpc>
                <a:spcPct val="6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6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6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6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6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6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895400" cy="44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86120" cy="44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895760" cy="44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0A60D1-0EF1-4A23-87C5-75B8E85F849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rcRect l="0" t="0" r="66628" b="0"/>
          <a:stretch/>
        </p:blipFill>
        <p:spPr>
          <a:xfrm>
            <a:off x="0" y="0"/>
            <a:ext cx="609480" cy="99072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 flipH="1">
            <a:off x="601200" y="380880"/>
            <a:ext cx="8550360" cy="180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6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914400" y="76320"/>
            <a:ext cx="7770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 algn="ctr">
              <a:lnSpc>
                <a:spcPct val="80000"/>
              </a:lnSpc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 Black"/>
              </a:rPr>
              <a:t>Méthode structurelle dynamiq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3333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08040" y="533520"/>
            <a:ext cx="3887640" cy="61102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890880" y="2928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6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5181480" y="901800"/>
            <a:ext cx="3429000" cy="25178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4353120" y="3946680"/>
            <a:ext cx="4952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4d4d4d"/>
                </a:solidFill>
                <a:latin typeface="Trebuchet MS"/>
              </a:rPr>
              <a:t>Une méthode pou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4d4d4d"/>
                </a:solidFill>
                <a:latin typeface="Trebuchet MS"/>
              </a:rPr>
              <a:t>y voir clair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3333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55760"/>
            <a:ext cx="784872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Histoire de la philosophie - Frise chronolog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52280" y="1211400"/>
            <a:ext cx="8839440" cy="4433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3333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47640" y="380520"/>
            <a:ext cx="784872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Repères chronologiques sur la Méthode en Philosoph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90440" y="1447920"/>
            <a:ext cx="8953560" cy="3581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52280" y="3581280"/>
            <a:ext cx="883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5160"/>
                <a:tab algn="l" pos="10779120"/>
                <a:tab algn="l" pos="10780560"/>
                <a:tab algn="l" pos="107823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-500</a:t>
            </a: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500</a:t>
            </a: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1.000</a:t>
            </a: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1.500</a:t>
            </a: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2.0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52280" y="2255760"/>
            <a:ext cx="18288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Héraclit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900" spc="-1" strike="noStrike">
                <a:solidFill>
                  <a:srgbClr val="000000"/>
                </a:solidFill>
                <a:latin typeface="Arial"/>
                <a:ea typeface="Arial"/>
              </a:rPr>
              <a:t>(-450 -480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Parménid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900" spc="-1" strike="noStrike">
                <a:solidFill>
                  <a:srgbClr val="000000"/>
                </a:solidFill>
                <a:latin typeface="Arial"/>
                <a:ea typeface="Arial"/>
              </a:rPr>
              <a:t>(-520 -450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09480" y="2666880"/>
            <a:ext cx="17528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Socrat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900" spc="-1" strike="noStrike">
                <a:solidFill>
                  <a:srgbClr val="000000"/>
                </a:solidFill>
                <a:latin typeface="Arial"/>
                <a:ea typeface="Arial"/>
              </a:rPr>
              <a:t>(-469 –399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Platon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900" spc="-1" strike="noStrike">
                <a:solidFill>
                  <a:srgbClr val="000000"/>
                </a:solidFill>
                <a:latin typeface="Arial"/>
                <a:ea typeface="Arial"/>
              </a:rPr>
              <a:t>(-427 –348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Aristot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900" spc="-1" strike="noStrike">
                <a:solidFill>
                  <a:srgbClr val="000000"/>
                </a:solidFill>
                <a:latin typeface="Arial"/>
                <a:ea typeface="Arial"/>
              </a:rPr>
              <a:t>(-384 –322)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438280" y="2819520"/>
            <a:ext cx="106704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St Augustin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900" spc="-1" strike="noStrike">
                <a:solidFill>
                  <a:srgbClr val="000000"/>
                </a:solidFill>
                <a:latin typeface="Arial"/>
                <a:ea typeface="Arial"/>
              </a:rPr>
              <a:t>(354 430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334120" y="2378160"/>
            <a:ext cx="19810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St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Thoma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d’Aquin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  <a:ea typeface="Arial"/>
              </a:rPr>
              <a:t>(1225 1274)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Descarte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900" spc="-1" strike="noStrike">
                <a:solidFill>
                  <a:srgbClr val="000000"/>
                </a:solidFill>
                <a:latin typeface="Arial"/>
                <a:ea typeface="Arial"/>
              </a:rPr>
              <a:t>(1596 1650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09480" y="3352680"/>
            <a:ext cx="838440" cy="152640"/>
          </a:xfrm>
          <a:prstGeom prst="flowChartTerminator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52280" y="2743200"/>
            <a:ext cx="533520" cy="152280"/>
          </a:xfrm>
          <a:prstGeom prst="flowChartTerminator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438280" y="3352680"/>
            <a:ext cx="609840" cy="152640"/>
          </a:xfrm>
          <a:prstGeom prst="flowChartTerminator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543800" y="3200400"/>
            <a:ext cx="1219320" cy="304920"/>
          </a:xfrm>
          <a:prstGeom prst="flowChartTerminator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10080" y="2819520"/>
            <a:ext cx="609840" cy="152280"/>
          </a:xfrm>
          <a:prstGeom prst="flowChartTerminator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400800" y="3352680"/>
            <a:ext cx="609480" cy="152640"/>
          </a:xfrm>
          <a:prstGeom prst="flowChartTermina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315200" y="2209680"/>
            <a:ext cx="20574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Kant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900" spc="-1" strike="noStrike">
                <a:solidFill>
                  <a:srgbClr val="000000"/>
                </a:solidFill>
                <a:latin typeface="Arial"/>
                <a:ea typeface="Arial"/>
              </a:rPr>
              <a:t>(1724 1804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Hegel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GB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(1770 183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Husserl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900" spc="-1" strike="noStrike">
                <a:solidFill>
                  <a:srgbClr val="000000"/>
                </a:solidFill>
                <a:latin typeface="Arial"/>
                <a:ea typeface="Arial"/>
              </a:rPr>
              <a:t>(1859 1938)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Ortega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GB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(1883 1955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Silo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900" spc="-1" strike="noStrike">
                <a:solidFill>
                  <a:srgbClr val="000000"/>
                </a:solidFill>
                <a:latin typeface="Arial"/>
                <a:ea typeface="Arial"/>
              </a:rPr>
              <a:t>(1938</a:t>
            </a:r>
            <a:r>
              <a:rPr b="0" lang="en-GB" sz="9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04920" y="3505320"/>
            <a:ext cx="86868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6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04920" y="4191120"/>
            <a:ext cx="2819160" cy="144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6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124080" y="4191120"/>
            <a:ext cx="3581640" cy="144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6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67080" y="434340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MOYEN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-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705720" y="4191120"/>
            <a:ext cx="914400" cy="144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6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066680" y="434340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ANTIQUI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781680" y="4343400"/>
            <a:ext cx="99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EPOQ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MODER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848720" y="4267080"/>
            <a:ext cx="22096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PHIL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CONTEMPORA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620120" y="4191120"/>
            <a:ext cx="1295280" cy="144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6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3333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439200"/>
            <a:ext cx="7696080" cy="39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Héraclite d’Ephèse (-544 –482 av. J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657600" y="1447920"/>
            <a:ext cx="5105520" cy="451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Philosophe gr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i="1" lang="en-GB" sz="2000" spc="-1" strike="noStrike">
                <a:solidFill>
                  <a:srgbClr val="000000"/>
                </a:solidFill>
                <a:latin typeface="Times New Roman"/>
              </a:rPr>
              <a:t>L’Etre* est éternellement en devenir </a:t>
            </a:r>
            <a:br>
              <a:rPr sz="2000"/>
            </a:br>
            <a:r>
              <a:rPr b="1" i="1" lang="en-GB" sz="2000" spc="-1" strike="noStrike">
                <a:solidFill>
                  <a:srgbClr val="000000"/>
                </a:solidFill>
                <a:latin typeface="Times New Roman"/>
              </a:rPr>
              <a:t>et tout se meut sans cesse.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i="1" lang="en-GB" sz="2000" spc="-1" strike="noStrike">
                <a:solidFill>
                  <a:srgbClr val="000000"/>
                </a:solidFill>
                <a:latin typeface="Times New Roman"/>
              </a:rPr>
              <a:t>Ce qui vit meurt, ce qui est mort devient vivant ; rien n’est plus ceci ou cela, </a:t>
            </a:r>
            <a:br>
              <a:rPr sz="2000"/>
            </a:br>
            <a:r>
              <a:rPr b="1" i="1" lang="en-GB" sz="2000" spc="-1" strike="noStrike">
                <a:solidFill>
                  <a:srgbClr val="000000"/>
                </a:solidFill>
                <a:latin typeface="Times New Roman"/>
              </a:rPr>
              <a:t>mais tout le devient.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Times New Roman"/>
              </a:rPr>
              <a:t> Etre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: en philosophie, exprime ou postule l’existence, la réalité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762120" y="1447920"/>
            <a:ext cx="2582640" cy="316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3333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79640" y="687240"/>
            <a:ext cx="7380000" cy="58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4400"/>
            </a:b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Qu'est-ce qui EST?</a:t>
            </a: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2 points de vue opposés</a:t>
            </a:r>
            <a:br>
              <a:rPr sz="4400"/>
            </a:b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hilippe Moal</cp:lastModifiedBy>
  <dcterms:modified xsi:type="dcterms:W3CDTF">2007-07-30T00:22:28Z</dcterms:modified>
  <cp:revision>10</cp:revision>
  <dc:subject/>
  <dc:title>Présentation PowerPoint</dc:title>
</cp:coreProperties>
</file>